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Arial"/>
              </a:rPr>
              <a:t>¿Y si ponemos un poco de 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820440"/>
            <a:ext cx="8785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Ordenamos y mejoramos la información: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¿Y si ponemos un poco de orden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05960" y="5675040"/>
            <a:ext cx="51627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blas y graf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56120" y="2603520"/>
            <a:ext cx="497340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325080"/>
            <a:ext cx="83152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necesidad de ordena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a sociedad actual y en nuestra vida cotidiana está llena de datos y de l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ayoría de estos datos y listas son numé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hace necesario ordenar la información para que sea más fácil entenderla y sacar conclusiones a partir d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731520"/>
            <a:ext cx="831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Tabla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muchas situaciones, los datos pueden disponerse en forma de tab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tablas pueden ser simples  o de doble ent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 simple: Ordena los datos referentes a un tipo de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 doble: En las filas se disponen los datos de un tipo de  información, en las columnas los del otro tipo y en las casillas o celdas de la tabla, el valor común que vincula las dos tipos de datos que manej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731520"/>
            <a:ext cx="831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Grafo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038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pequeños esquemas que muestran puntos (vértices) y las relaciones entre ellos (aris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80000" y="1569960"/>
            <a:ext cx="3240000" cy="239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140360"/>
            <a:ext cx="846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grafos se utilizan para simplificar la información que se recoge en problemas de transportes, de distribución, de repartos, de montajes,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afo puede ser orientado o no. En el primer caso se indica con una flecha sobre la arista el sentido en el que se comunican los vér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731520"/>
            <a:ext cx="831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Matr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blas y grafos pueden simplificarse usando las matr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matriz es una disposición de números ordenadas en filas y colum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tabla se convierte en matriz poniendo simplemente los valores y olvidándonos de las etiqu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 grafo se convierte en matriz poniendo 1 y 0 según los vértices estén comunicados o 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 esta matriz se le llama matriz de adyacencia del graf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731520"/>
            <a:ext cx="831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Problemas con grafo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88040" y="1674720"/>
            <a:ext cx="2811600" cy="2465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blema del camino más co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scar la ruta de me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puentes de Königs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scar rutas que pase por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los puntos sin repetir ari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necesario que de cada vértice salga un número par de ari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Rafa</cp:lastModifiedBy>
  <dcterms:modified xsi:type="dcterms:W3CDTF">2010-06-14T10:00:28Z</dcterms:modified>
  <cp:revision>24</cp:revision>
  <dc:subject/>
  <dc:title>Diapositiva 1</dc:title>
</cp:coreProperties>
</file>