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2C7-3917-4C2A-A7D5-2E934F97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2A9-6494-4F1D-AB22-642ABB25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957-DDA6-48B4-8BD2-EA6CB309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67B-6366-42BF-B33C-C65EE78E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EC41-9846-4513-85F2-B4394E51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23CB-700F-4932-9BD6-017B6318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72B8-DF95-4297-B339-947CBE9E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8B81-8617-475C-94EE-93BBEAE2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A89C-A4FD-49C8-BF3E-1B8912E6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AC37-FC4D-4D68-ABA0-FA970FA5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ADBB-053D-436E-B8D2-7B3B1322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D58-D42C-4A71-BC5C-66F95A6E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CEF4-C1E5-4D02-915A-E61B02F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F444-2E13-4284-A33E-5F99426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DB22-56D9-44A1-A753-891D529D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0CC7-F732-489F-B460-74AD84DE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6052-727C-4E0E-83FA-0DBA23D5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B16-551B-491C-B16B-97377E45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C75-9849-4FF6-B26B-2AEF4C26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16B-5CAC-4C27-80D6-9F4DAD4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096-BE51-49D2-B733-DA9C96FA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A9B-5688-4198-B3AC-7F40C8A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571-7A77-41F7-8A2D-427D7C64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36C-B483-49AC-BA6C-BE07819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DC02-89AB-4E1E-935A-EF5F6915F01D}" type="slidenum">
              <a:rPr b="0" lang="es-ES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47B2-5020-45EE-88A4-ECE66FA5C3AC}" type="slidenum">
              <a:rPr b="0" lang="es-ES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6583320"/>
            <a:ext cx="63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Aspectos energéticos de la Corrient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onceptos y fenómenos eléctricos de Corriente continua: Aspectos energéticos de la Corriente continua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rimeros concepto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2" name="6 Marcador de contenido" descr=""/>
          <p:cNvPicPr/>
          <p:nvPr/>
        </p:nvPicPr>
        <p:blipFill>
          <a:blip r:embed="rId1"/>
          <a:stretch/>
        </p:blipFill>
        <p:spPr>
          <a:xfrm>
            <a:off x="371520" y="1566720"/>
            <a:ext cx="8521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uy important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4" name="6 Marcador de contenido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4220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fecto Joul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6" name="6 Marcador de contenido" descr=""/>
          <p:cNvPicPr/>
          <p:nvPr/>
        </p:nvPicPr>
        <p:blipFill>
          <a:blip r:embed="rId1"/>
          <a:stretch/>
        </p:blipFill>
        <p:spPr>
          <a:xfrm>
            <a:off x="361800" y="1566720"/>
            <a:ext cx="8242560" cy="46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Generado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8" name="7 Marcador de contenido" descr=""/>
          <p:cNvPicPr/>
          <p:nvPr/>
        </p:nvPicPr>
        <p:blipFill>
          <a:blip r:embed="rId1"/>
          <a:stretch/>
        </p:blipFill>
        <p:spPr>
          <a:xfrm>
            <a:off x="361800" y="1566720"/>
            <a:ext cx="8242560" cy="4632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Recepto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3" name="7 Marcador de contenido" descr=""/>
          <p:cNvPicPr/>
          <p:nvPr/>
        </p:nvPicPr>
        <p:blipFill>
          <a:blip r:embed="rId1"/>
          <a:stretch/>
        </p:blipFill>
        <p:spPr>
          <a:xfrm>
            <a:off x="361800" y="1566720"/>
            <a:ext cx="8242560" cy="4565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iferencia de potencial entre dos punto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8" name="6 Marcador de contenido" descr=""/>
          <p:cNvPicPr/>
          <p:nvPr/>
        </p:nvPicPr>
        <p:blipFill>
          <a:blip r:embed="rId1"/>
          <a:stretch/>
        </p:blipFill>
        <p:spPr>
          <a:xfrm>
            <a:off x="853920" y="1596960"/>
            <a:ext cx="8290080" cy="4535640"/>
          </a:xfrm>
          <a:prstGeom prst="rect">
            <a:avLst/>
          </a:prstGeom>
          <a:ln w="0">
            <a:noFill/>
          </a:ln>
        </p:spPr>
      </p:pic>
      <p:cxnSp>
        <p:nvCxnSpPr>
          <p:cNvPr id="159" name="10 Conector recto de flecha"/>
          <p:cNvCxnSpPr/>
          <p:nvPr/>
        </p:nvCxnSpPr>
        <p:spPr>
          <a:xfrm>
            <a:off x="1714320" y="4142880"/>
            <a:ext cx="85788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grpSp>
        <p:nvGrpSpPr>
          <p:cNvPr id="160" name="14 Rectángulo redondeado"/>
          <p:cNvGrpSpPr/>
          <p:nvPr/>
        </p:nvGrpSpPr>
        <p:grpSpPr>
          <a:xfrm>
            <a:off x="4621320" y="5248440"/>
            <a:ext cx="3747960" cy="768240"/>
            <a:chOff x="4621320" y="5248440"/>
            <a:chExt cx="3747960" cy="768240"/>
          </a:xfrm>
        </p:grpSpPr>
        <p:pic>
          <p:nvPicPr>
            <p:cNvPr id="161" name="1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621320" y="5248440"/>
              <a:ext cx="37479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786200" y="5286240"/>
              <a:ext cx="3429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nstantia"/>
                </a:rPr>
                <a:t>Ua – Ub = I x </a:t>
              </a:r>
              <a:r>
                <a:rPr b="1" lang="el-GR" sz="2800" spc="-1" strike="noStrike">
                  <a:solidFill>
                    <a:srgbClr val="ffffff"/>
                  </a:solidFill>
                  <a:latin typeface="Constantia"/>
                </a:rPr>
                <a:t>Σ</a:t>
              </a:r>
              <a:r>
                <a:rPr b="1" lang="es-ES" sz="2800" spc="-1" strike="noStrike">
                  <a:solidFill>
                    <a:srgbClr val="ffffff"/>
                  </a:solidFill>
                  <a:latin typeface="Constantia"/>
                </a:rPr>
                <a:t>R -</a:t>
              </a:r>
              <a:r>
                <a:rPr b="1" lang="el-GR" sz="2800" spc="-1" strike="noStrike">
                  <a:solidFill>
                    <a:srgbClr val="ffffff"/>
                  </a:solidFill>
                  <a:latin typeface="Constantia"/>
                </a:rPr>
                <a:t>Σ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438800" y="528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438800" y="528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4438800" y="528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39 Conector recto de flecha"/>
          <p:cNvCxnSpPr/>
          <p:nvPr/>
        </p:nvCxnSpPr>
        <p:spPr>
          <a:xfrm flipH="1">
            <a:off x="6428520" y="4930920"/>
            <a:ext cx="2520" cy="357840"/>
          </a:xfrm>
          <a:prstGeom prst="straightConnector1">
            <a:avLst/>
          </a:prstGeom>
          <a:ln w="25560">
            <a:solidFill>
              <a:srgbClr val="dc943f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6:00:59Z</dcterms:created>
  <dc:creator>Luis Bravo de la Hoz</dc:creator>
  <dc:description/>
  <dc:language>en-US</dc:language>
  <cp:lastModifiedBy>domus</cp:lastModifiedBy>
  <dcterms:modified xsi:type="dcterms:W3CDTF">2010-07-19T07:13:15Z</dcterms:modified>
  <cp:revision>44</cp:revision>
  <dc:subject/>
  <dc:title>RESUMEN TEMA 2</dc:title>
</cp:coreProperties>
</file>