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200" y="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1CC24-682B-4F24-9B20-199BC8422DC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18451-E74F-4B50-A265-588B6B01296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9B5B8-137B-4594-A6AD-3872524FBBF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9C716-F6E6-4C97-B9D4-1DA69B9D41E7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B595C-3861-413D-A9C9-0CDADE9C93D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921CD-030E-4482-A0F9-8AD73EB4BB5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931A2-36E5-4EF1-BD1A-22F8E562C82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18D3D-B3D6-4CA4-84CD-1E9A0089B53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86CDF-6221-43FA-A836-014508064B37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9988-D5ED-4C54-BA5A-44A5DAA76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D3E74-6ABB-4C5E-AA2E-D158F6982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2490-5B2A-4C08-9C22-03B94A7B3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6C42-8DFF-432F-85EF-61AE87A87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6714-8BF6-4161-86F8-F000DAAFA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9597-231B-4D2C-8625-F26C04C65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3C2C-EDD1-4C2C-801F-56B2FEE7E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9D6A-8CAD-433B-8B5C-506C5C21B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371520"/>
            <a:ext cx="83120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42DF-086C-486B-8A0D-70AF480A8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84C4-ABFB-4F30-8C1B-2FC394939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4233-0217-420A-BCFB-37FF55923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A5AA-7BA1-43ED-ACFE-E72DA2238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224920" cy="1598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53280"/>
            <a:ext cx="213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CEDE0-9489-41DA-B935-125AD289DCC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8680" y="371520"/>
            <a:ext cx="8312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0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El origen del ser hum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62080" y="4267080"/>
            <a:ext cx="184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2205000"/>
            <a:ext cx="3186360" cy="3962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324000"/>
            <a:ext cx="831384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l ser humano: El origen del ser human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836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Las pruebas de la evoluci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ón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2214720"/>
            <a:ext cx="4043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685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registro f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ós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Isomorfismos anatóm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Embriología compa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Biogeograf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tavis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048120"/>
            <a:ext cx="37195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86280" y="3286080"/>
            <a:ext cx="26434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72200" y="3355920"/>
            <a:ext cx="184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3581280" cy="29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1989000"/>
            <a:ext cx="77864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eo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ía de Lamarck, b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sada en dos ley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a ley de uso y desuso de los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órg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Char char="•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a ley de transmisibilidad de los caracteres adquir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eor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ía de Darwin y Wallace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voluc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ón por selección natural de los caracteres ventajos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65000"/>
            <a:ext cx="82296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Teor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ías de la Evol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5280" y="1628640"/>
            <a:ext cx="4600440" cy="49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685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¿Gradualismo o evoluci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ón a sal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plejidad de los órgan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plejidad de la célu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Papel de la simbiosis en la ev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Papel de los virus en la evolu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Wingdings 2" charset="2"/>
              <a:buChar char="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ceptos sin conten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68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836640"/>
            <a:ext cx="82296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Cr</a:t>
            </a:r>
            <a:r>
              <a:rPr b="1" lang="en-GB" sz="3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íticas al darwin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07320" y="3024360"/>
            <a:ext cx="183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65760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68360" y="981000"/>
            <a:ext cx="82278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Factores de la hominizaci</a:t>
            </a:r>
            <a:r>
              <a:rPr b="1" lang="es-ES" sz="3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ón y rasgos de la espec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276640"/>
            <a:ext cx="403704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Factore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Bipedismo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Dieta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erebraci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2276640"/>
            <a:ext cx="403884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sg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Acortamiento extremidades superior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Gran tamaño cranea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casa especializaci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madurez al nace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rganos fonador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ión estereoscópic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8360" y="692280"/>
            <a:ext cx="822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Hominizaci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ón y huma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133720"/>
            <a:ext cx="822780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ominizaci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humanización son dos procesos que se realimentan uno a otro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7848720" cy="221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pc</cp:lastModifiedBy>
  <cp:lastPrinted>2010-10-06T09:51:51Z</cp:lastPrinted>
  <dcterms:modified xsi:type="dcterms:W3CDTF">2009-06-15T07:14:38Z</dcterms:modified>
  <cp:revision>16</cp:revision>
  <dc:subject/>
  <dc:title>Tema 1. La actividad económica</dc:title>
</cp:coreProperties>
</file>