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76720" y="6583320"/>
            <a:ext cx="586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Las cuentas del diner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742680"/>
            <a:ext cx="86454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08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99"/>
                </a:solidFill>
                <a:latin typeface="Arial"/>
              </a:rPr>
              <a:t>Números reales. Aplicaciones: Las cuentas del dinero I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05960" y="5370480"/>
            <a:ext cx="5162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centajes e inter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680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488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cular la cantidad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cular el % que corresponde a una cantidad del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18680" y="753840"/>
            <a:ext cx="831708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6699"/>
                </a:solidFill>
                <a:latin typeface="Arial"/>
              </a:rPr>
              <a:t>% de una cantidad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211640" y="324972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1407960"/>
            <a:ext cx="2210040" cy="1074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71880" y="2971800"/>
            <a:ext cx="3000240" cy="121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267080" y="4724280"/>
            <a:ext cx="3035520" cy="15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360" y="455400"/>
            <a:ext cx="831528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6699"/>
                </a:solidFill>
                <a:latin typeface="Arial"/>
              </a:rPr>
              <a:t>Aumentos y descuentos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cular la cantidad final después de un aumento o descu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 más fá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927520" y="2843280"/>
                <a:ext cx="2654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f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n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5149800" cy="15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753840"/>
            <a:ext cx="831708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6699"/>
                </a:solidFill>
                <a:latin typeface="Arial"/>
              </a:rPr>
              <a:t>Interés Simpl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dinero no se acumula al capital y se retira tras cada peri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órmula del interé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iempo es en meses se divide entre 1200 y si es en días entre 3600 en lugar de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3200" spc="-1" strike="noStrike" baseline="-33000">
                <a:solidFill>
                  <a:srgbClr val="000000"/>
                </a:solidFill>
                <a:latin typeface="Arial"/>
              </a:rPr>
              <a:t>fi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_tradnl" sz="3200" spc="-1" strike="noStrike" baseline="-33000">
                <a:solidFill>
                  <a:srgbClr val="000000"/>
                </a:solidFill>
                <a:latin typeface="Arial"/>
              </a:rPr>
              <a:t>in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+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680000" y="2519280"/>
                <a:ext cx="1503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·r·t</m:t>
                        </m:r>
                      </m:num>
                      <m:den>
                        <m: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753840"/>
            <a:ext cx="831708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6699"/>
                </a:solidFill>
                <a:latin typeface="Arial"/>
              </a:rPr>
              <a:t>Interés Compuesto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 tiempo está en meses se divide por 1200 y si es en días por 3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 = C</a:t>
            </a:r>
            <a:r>
              <a:rPr b="0" lang="es-ES_tradnl" sz="3200" spc="-1" strike="noStrike" baseline="-33000">
                <a:solidFill>
                  <a:srgbClr val="000000"/>
                </a:solidFill>
                <a:latin typeface="Arial"/>
              </a:rPr>
              <a:t>fi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_tradnl" sz="3200" spc="-1" strike="noStrike" baseline="-33000">
                <a:solidFill>
                  <a:srgbClr val="000000"/>
                </a:solidFill>
                <a:latin typeface="Arial"/>
              </a:rPr>
              <a:t>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5214960"/>
            <a:ext cx="1088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on esta fórmula el viejo calculó lo que tenían que darle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2025720"/>
            <a:ext cx="426744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8680" y="753840"/>
            <a:ext cx="831708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6699"/>
                </a:solidFill>
                <a:latin typeface="Arial"/>
              </a:rPr>
              <a:t>T.A.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43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sa anual equival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% que crece un capital durante un a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ía según los intereses o pagos vayan mes a mes, año a año o día a d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7:25:37Z</dcterms:created>
  <dc:creator>pc</dc:creator>
  <dc:description/>
  <dc:language>en-US</dc:language>
  <cp:lastModifiedBy>Rafa</cp:lastModifiedBy>
  <dcterms:modified xsi:type="dcterms:W3CDTF">2010-05-25T06:50:55Z</dcterms:modified>
  <cp:revision>32</cp:revision>
  <dc:subject/>
  <dc:title>Diapositiva 1</dc:title>
</cp:coreProperties>
</file>