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69F00-F474-431A-9ADD-4979504C88F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22210-C43B-4EB7-8595-491B62129BA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21E24-367F-4892-9030-EBE5184628D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5191F-41E3-4FC4-AD96-288DB929962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EE457-6848-454D-A042-FB34BDF1669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6EE7D-E7B2-44B9-9DCA-6187C3A3260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4CF11-7444-420E-B2F2-54C52DCF5DE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26A20-7D67-43CA-96CB-B81BE0C9D40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0168-B51E-4300-A070-2558BEB9F6A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11280" y="6583320"/>
            <a:ext cx="673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 dimensión simbólica y lingüística del ser 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9800" y="5011560"/>
            <a:ext cx="18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0280" y="4446720"/>
            <a:ext cx="184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78000" y="3090960"/>
            <a:ext cx="2922840" cy="112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71880" y="4265640"/>
            <a:ext cx="3071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mag.1 Autor: Einar Faa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icencia: GFD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93640"/>
            <a:ext cx="8315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l ser humano: La dimensión simbólica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y lingüística del ser human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836640"/>
            <a:ext cx="66247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  <a:ea typeface="LilyUPC"/>
              </a:rPr>
              <a:t>Comunicaci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ón y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lenguaje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 (1)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  <a:ea typeface="Lily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760" y="2214720"/>
            <a:ext cx="4043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048120"/>
            <a:ext cx="37195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89000"/>
            <a:ext cx="7920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tinción entre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enguaj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L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es transmisión de inform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todo acto comunicativo hay un emisor, un receptor y un mensaje que se construye mediante algún código y se transmite a través de algún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enguaj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es un código de sig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64087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omunicación y lenguaje (2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760" y="2214720"/>
            <a:ext cx="4043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048120"/>
            <a:ext cx="37195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00280"/>
            <a:ext cx="83516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signo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son realidades que se utilizan para designar a otras realidades. Pueden ser naturales o convencionales, y dentro de estos podemos encontrar símbolos y signos propiamente dich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s signos del lenguaje tienen un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significa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y un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significad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,  y designan a un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refer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(el objeto real design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s principales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funcion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del lenguaje son: cognitiv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va y conativa. Podemos añadir, además, otras funciones secundarias, como la función metalingüística y la lúdico-estét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9040" y="849240"/>
            <a:ext cx="8315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Lenguaje animal y lenguaje hum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470320"/>
            <a:ext cx="403704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 anim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Instintivo y natur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Concreto.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Inarticulado.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Rígido y no creativ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492280"/>
            <a:ext cx="419112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 human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Aprendido y convencion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Abstracto.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Articulado.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cc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Flexible y creativ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1989000"/>
            <a:ext cx="782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lenguaje cumple funciones imprescindib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) Para l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socializ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) Para l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transmis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de la cul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) Para e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ogres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científ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lenguaje, sin embargo, puede servir par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istorsionar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y enmascarar la realidad al servicio de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ideologí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o crear una ilusori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sif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de lo re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836640"/>
            <a:ext cx="5703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Lenguaje y cult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4920" y="5143680"/>
            <a:ext cx="4000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763560"/>
            <a:ext cx="8227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Lenguaje y pers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238608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1773360"/>
            <a:ext cx="583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El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origen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del lenguaje en la infanci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 sitúa en torno al año. A los tres años se consolida nuestra competencia como oyentes y hablantes de nuestra len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El lenguaje actúa vertebrando nuestr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historia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personal, que se expande en el territorio del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tiemp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futuro y pasado, meras categorías lingüísticas extrapoladas a lo re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Según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Lacan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, el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inconsci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está estructurado como un lenguaj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79600" y="3645000"/>
            <a:ext cx="184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359080" cy="2579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4724280"/>
            <a:ext cx="219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mag.2 Autor: Komo30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icencia: GFD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685800"/>
            <a:ext cx="583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readores de lenguaj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773360"/>
            <a:ext cx="5040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Los seres humanos somo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reador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de lenguajes. Entre los lenguajes inventados más importantes podemos cita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) Los lenguajes de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ign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para personas sor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) Lenguaje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rtifi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, como los lenguajes para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ituaciones espe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, los lenguajes de la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ienci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y los lenguaje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orm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97560" y="3537000"/>
            <a:ext cx="184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809800" cy="3657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940360" y="5589720"/>
            <a:ext cx="2643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mag.3 Autor: Cwterp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icencia: Dominio Públ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pc</cp:lastModifiedBy>
  <cp:lastPrinted>2010-10-06T09:53:19Z</cp:lastPrinted>
  <dcterms:modified xsi:type="dcterms:W3CDTF">2009-06-15T08:21:36Z</dcterms:modified>
  <cp:revision>15</cp:revision>
  <dc:subject/>
  <dc:title>Tema 1. La actividad económica</dc:title>
</cp:coreProperties>
</file>