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0" y="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dt" idx="3"/>
          </p:nvPr>
        </p:nvSpPr>
        <p:spPr>
          <a:xfrm>
            <a:off x="4020840" y="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0" y="971856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4"/>
          </p:nvPr>
        </p:nvSpPr>
        <p:spPr>
          <a:xfrm>
            <a:off x="402084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  <a:defRPr b="0" lang="en-GB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22B1F8B1-6CE4-486A-93F5-1DA0E6398B89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FEEA1C9F-356E-4D4D-AAD0-CD8FD364B141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FCFFD824-C5BC-4FA9-ABC7-BC7255D30CD7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1A22DCFE-7FD4-475F-9A73-97EAFB508A59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1DF52058-7D4E-4281-8EB6-D9670AA8ECC7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3 Marcador de número de diapositiva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6AD457A7-9040-4BDD-A3A6-8E5F711204BF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820EC33F-84A3-4662-8B01-D06AD3817BD7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2E743341-9DE8-4F41-AE78-4AB9736955EB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8C2360DD-280D-4A03-A450-F454527B830B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022FFB5E-2E5C-428B-B100-BAA100472521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B4CBDB5A-FF72-45E6-883F-30C1573DC056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B6E9941C-56FB-4083-AE4B-B7E53F2A5220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0F8B0-F7F8-41E8-B569-B8389A07F0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EA6F6-E0C9-4D49-A2C3-D3A985B4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502DE-9082-4BFA-B44C-F891E8A7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0856C-DB15-41C4-80CB-7737356FB7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930C1-9CBC-442A-B8F0-5F7EBF5F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C1792-DD73-4098-BC52-7A95A7C0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A9968-08C1-4995-94A3-58800FA7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497B7-F808-42D0-840F-77DA8C37D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7D3E3-2D51-4062-89F6-06497CDC0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F4D27-AE0A-4A55-B525-54B1473B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30A98-1438-416F-A118-32A3678F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35E93-0B1F-4389-8766-E221E27C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 flipV="1" rot="420000">
            <a:off x="3164040" y="1107000"/>
            <a:ext cx="5257800" cy="4114800"/>
          </a:xfrm>
          <a:prstGeom prst="pie">
            <a:avLst/>
          </a:pr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 flipV="1" rot="420000">
            <a:off x="8002080" y="5358960"/>
            <a:ext cx="15588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AutoShape 3"/>
          <p:cNvSpPr/>
          <p:nvPr/>
        </p:nvSpPr>
        <p:spPr>
          <a:xfrm flipV="1">
            <a:off x="-9000" y="5814000"/>
            <a:ext cx="9162720" cy="1041480"/>
          </a:xfrm>
          <a:prstGeom prst="pie">
            <a:avLst/>
          </a:prstGeom>
          <a:gradFill rotWithShape="0">
            <a:gsLst>
              <a:gs pos="0">
                <a:srgbClr val="bf7825"/>
              </a:gs>
              <a:gs pos="100000">
                <a:srgbClr val="ffc400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AutoShape 4"/>
          <p:cNvSpPr/>
          <p:nvPr/>
        </p:nvSpPr>
        <p:spPr>
          <a:xfrm flipV="1">
            <a:off x="4381560" y="6217560"/>
            <a:ext cx="4762440" cy="638280"/>
          </a:xfrm>
          <a:prstGeom prst="pie">
            <a:avLst/>
          </a:prstGeom>
          <a:gradFill rotWithShape="0">
            <a:gsLst>
              <a:gs pos="0">
                <a:srgbClr val="bf9506"/>
              </a:gs>
              <a:gs pos="100000">
                <a:srgbClr val="f4921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570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102000"/>
              </a:lnSpc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2000"/>
              </a:lnSpc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2000"/>
              </a:lnSpc>
              <a:spcBef>
                <a:spcPts val="649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5840" indent="-208080">
              <a:lnSpc>
                <a:spcPct val="102000"/>
              </a:lnSpc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0520" indent="-208080">
              <a:lnSpc>
                <a:spcPct val="102000"/>
              </a:lnSpc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0520" indent="-208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0520" indent="-208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Text Box 8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8076960" y="6356160"/>
            <a:ext cx="608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404924"/>
                </a:solidFill>
                <a:latin typeface="Constanti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EE3702C-156B-4BB6-9D71-07290D374A8A}" type="slidenum">
              <a:rPr b="0" lang="en-GB" sz="1200" spc="-1" strike="noStrike">
                <a:solidFill>
                  <a:srgbClr val="404924"/>
                </a:solidFill>
                <a:latin typeface="Constanti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33342" t="16329" r="27525" b="-7557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6583320"/>
            <a:ext cx="586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336699"/>
                </a:solidFill>
                <a:latin typeface="Trebuchet MS"/>
              </a:rPr>
              <a:t> </a:t>
            </a:r>
            <a:r>
              <a:rPr b="1" lang="es-ES" sz="1800" spc="-1" strike="noStrike">
                <a:solidFill>
                  <a:srgbClr val="336699"/>
                </a:solidFill>
                <a:latin typeface="Trebuchet MS"/>
              </a:rPr>
              <a:t>Paco visits Chica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19040" y="596880"/>
            <a:ext cx="861228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250920" y="50976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Paco had dreamt with this journey before: </a:t>
            </a:r>
            <a:r>
              <a:rPr b="1" lang="es-ES" sz="3600" spc="-1" strike="noStrike">
                <a:solidFill>
                  <a:srgbClr val="336699"/>
                </a:solidFill>
                <a:latin typeface="Arial"/>
              </a:rPr>
              <a:t>Paco visits Chicag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10" descr=""/>
          <p:cNvPicPr/>
          <p:nvPr/>
        </p:nvPicPr>
        <p:blipFill>
          <a:blip r:embed="rId1"/>
          <a:stretch/>
        </p:blipFill>
        <p:spPr>
          <a:xfrm>
            <a:off x="4859280" y="2349360"/>
            <a:ext cx="3000600" cy="326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539640" y="404640"/>
            <a:ext cx="82296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6699"/>
                </a:solidFill>
                <a:latin typeface="LilyUPC"/>
              </a:rPr>
              <a:t>Causative have</a:t>
            </a:r>
            <a:r>
              <a:rPr b="1" lang="en-US" sz="4000" spc="-1" strike="noStrike">
                <a:solidFill>
                  <a:srgbClr val="336699"/>
                </a:solidFill>
                <a:latin typeface="LilyUPC"/>
              </a:rPr>
              <a:t> for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24000" y="1844640"/>
            <a:ext cx="856908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he causative have (or also have / get something don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is an unusual structure in Spanish but not in English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We use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causative hav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when arranging for someone to do something for u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f we say in Spanish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I cut my hair yesterday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e mean that somebody cut my hair for me and I did not do it myself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owever, in English we should use the causative have structure: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I had my hair cut yesterday,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hich implies that I went to the hairdresser and he or she cut my hair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9040" y="731520"/>
            <a:ext cx="8315280" cy="352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336699"/>
                </a:solidFill>
                <a:latin typeface="LilyUPC"/>
              </a:rPr>
              <a:t>Have / get something done</a:t>
            </a:r>
            <a:endParaRPr b="1" lang="en-US" sz="35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81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he differences between 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have and get something done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are that 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have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is a bit more formal than 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get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Have your car repaired soon if you don't want to have an accide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he verb 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get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is more usual than 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have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in the imperative for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Get your hair cut now!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395280" y="333360"/>
            <a:ext cx="8229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LilyUPC"/>
              </a:rPr>
              <a:t>1. Question ta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250920" y="1557360"/>
            <a:ext cx="856908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   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stion tags are very common in Englis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hey are placed at the end of a sentence and they ask for confirma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m I right? or Do you agree with me?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 you have probably deduced, the basic structure to form a question tag 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+)  Positive statement                                    (-)  negative tag?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oday is Sunday,                                                  isn't i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-) Negative statement                                    (+)  positive t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You don't like pizza,                                                do you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39528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LilyUPC"/>
              </a:rPr>
              <a:t>2. Question tag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395280" y="1916280"/>
            <a:ext cx="813600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tonation in question tag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e can change the meaning of a tag question with our voice's intonatio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ith rising intonation, it sounds like a real questio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t if our intonation falls, it sounds more like a statement that doesn't require a real answer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                                                   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ONATION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You don't know where Lincoln was born, do you?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 rising    &gt;    real ques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Springfield is a beautiful town,isn't it?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\ falling    &gt;    not a real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395280" y="115920"/>
            <a:ext cx="82296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336699"/>
                </a:solidFill>
                <a:latin typeface="LilyUPC"/>
              </a:rPr>
              <a:t>The schwa sound </a:t>
            </a:r>
            <a:r>
              <a:rPr b="1" lang="es-ES" sz="4000" spc="-1" strike="noStrike">
                <a:solidFill>
                  <a:srgbClr val="336699"/>
                </a:solidFill>
                <a:latin typeface="LilyUPC"/>
              </a:rPr>
              <a:t>[ə].</a:t>
            </a:r>
            <a:r>
              <a:rPr b="0" lang="es-ES" sz="1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395280" y="1773360"/>
            <a:ext cx="813600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schw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s the vowel sound in many lightly pronounced unaccented syllables in words of more than one syllable.It is sometimes signified by the pronunciation "uh" or symbolized by an upside-down rotated e. 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schw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ound can be represented by any vowel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he mid-central vowel sound (rounded or unrounded) in the middle of the vowel chart, stressed or unstressed. In IPA phonetic transcription, it is written as [ə]. In this case the term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mid-central vowe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may be used instead of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schw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to avoid ambigu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me examples of schwa sounds can be found i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doct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or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/  b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nan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 /  pr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ect / t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morrow  / diffic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u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t / s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ur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vive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summ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r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/ lev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 / theat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re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 / pup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  / meas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ure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 / wiz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r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qui</dc:creator>
  <dc:description/>
  <dc:language>en-US</dc:language>
  <cp:lastModifiedBy>Rafa</cp:lastModifiedBy>
  <dcterms:modified xsi:type="dcterms:W3CDTF">2010-03-24T13:05:39Z</dcterms:modified>
  <cp:revision>19</cp:revision>
  <dc:subject/>
  <dc:title>Estudiamos las palabras invariables</dc:title>
</cp:coreProperties>
</file>