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2FFC0EBA-1511-48F6-B1B8-8647CDFA824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71E69301-CF31-4536-A5C0-67331F6C12B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C9BE688A-CF00-487B-A66B-7D79C58C481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5A8A5AB3-48C6-4852-BFDE-D34EE56BAA6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CBE6C93F-AE67-4698-B36D-7FC119A03B0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A412D445-5BAC-44FD-BCA1-20822EF48D8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9644A4F5-B017-403A-989B-AF4BB1F09C0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E6C02E23-D50E-4D9E-BD77-89D0CB0E46B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780E6F6B-69DC-4E83-88CF-2050C22598E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1D84ECF1-F116-4575-8858-158301451F5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BFDDAF65-50FB-4BCE-8CBA-C120D8180F7C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1DBF4BD7-1F21-45B9-80C2-A4AA2FA8D7CA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62EB8-9C0A-4713-9201-9585C7B8BA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CCD0A-9719-46D6-A8FB-88C94B38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46EBB-D94F-410A-A2F7-31E3D40D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35E77-634B-4B76-B894-8F582F0D9E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0390A-B24C-49E7-870A-67A95910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452DA-38CB-4EA7-8732-615074B0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6105-BF28-4B90-AE8E-2FC5A674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1072-F17A-455E-942B-AC1A7BEC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8058-D9D6-443D-BD02-53AD6D36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F37CD-F584-4CCD-9351-D88F4988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1322-229C-4E52-BF14-0F930314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63D1E-6735-4274-A95B-A437D6B9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/>
              </a:gs>
              <a:gs pos="100000">
                <a:srgbClr val="ffc40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/>
              </a:gs>
              <a:gs pos="100000">
                <a:srgbClr val="f4921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2000"/>
              </a:lnSpc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2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052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DB13A5-E771-403E-ACF3-8A498E601C22}" type="slidenum">
              <a: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6583320"/>
            <a:ext cx="586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Paco visits Chic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50920" y="5097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aco had dreamt with this journey before: </a:t>
            </a: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Paco visits Chica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000600" cy="32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539640" y="40464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6699"/>
                </a:solidFill>
                <a:latin typeface="LilyUPC"/>
              </a:rPr>
              <a:t>Causative have</a:t>
            </a:r>
            <a:r>
              <a:rPr b="1" lang="en-US" sz="4000" spc="-1" strike="noStrike">
                <a:solidFill>
                  <a:srgbClr val="336699"/>
                </a:solidFill>
                <a:latin typeface="LilyUPC"/>
              </a:rPr>
              <a:t> 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24000" y="1844640"/>
            <a:ext cx="8569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he causative have (or also have / get something don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is an unusual structure in Spanish but not in Englis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e use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causative hav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hen arranging for someone to do something for u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we say in Spanish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I cut my hair yesterday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e mean that somebody cut my hair for me and I did not do it myself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wever, in English we should use the causative have structure: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I had my hair cut yesterday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hich implies that I went to the hairdresser and he or she cut my hair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731520"/>
            <a:ext cx="831528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6699"/>
                </a:solidFill>
                <a:latin typeface="LilyUPC"/>
              </a:rPr>
              <a:t>Have / get something done</a:t>
            </a:r>
            <a:endParaRPr b="1" lang="en-US" sz="35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8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he differences between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ve and get something don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are that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is a bit more formal than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ve your car repaired soon if you don't want to have an accid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he verb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is more usual than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in the imperative for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Get your hair cut now!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395280" y="33336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LilyUPC"/>
              </a:rPr>
              <a:t>1. Question ta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50920" y="1557360"/>
            <a:ext cx="85690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   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stion tags are very common in Englis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y are placed at the end of a sentence and they ask for confirma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m I right? or Do you agree with me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 you have probably deduced, the basic structure to form a question tag 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+)  Positive statement                                    (-)  negative tag?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oday is Sunday,                                                  isn't 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Negative statement                                    (+)  positive t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ou don't like pizza,                                                do you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39528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LilyUPC"/>
              </a:rPr>
              <a:t>2. Question ta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95280" y="1916280"/>
            <a:ext cx="813600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onation in question tag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e can change the meaning of a tag question with our voice's inton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ith rising intonation, it sounds like a real ques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 if our intonation falls, it sounds more like a statement that doesn't require a real answer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ONATION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ou don't know where Lincoln was born, do you?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 rising    &gt;    real 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pringfield is a beautiful town,isn't it?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\ falling    &gt;    not a real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95280" y="11592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6699"/>
                </a:solidFill>
                <a:latin typeface="LilyUPC"/>
              </a:rPr>
              <a:t>The schwa sound </a:t>
            </a:r>
            <a:r>
              <a:rPr b="1" lang="es-ES" sz="4000" spc="-1" strike="noStrike">
                <a:solidFill>
                  <a:srgbClr val="336699"/>
                </a:solidFill>
                <a:latin typeface="LilyUPC"/>
              </a:rPr>
              <a:t>[ə].</a:t>
            </a:r>
            <a:r>
              <a:rPr b="0" lang="es-E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395280" y="1773360"/>
            <a:ext cx="8136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chw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s the vowel sound in many lightly pronounced unaccented syllables in words of more than one syllable.It is sometimes signified by the pronunciation "uh" or symbolized by an upside-down rotated e.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chw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und can be represented by any vowe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mid-central vowel sound (rounded or unrounded) in the middle of the vowel chart, stressed or unstressed. In IPA phonetic transcription, it is written as [ə]. In this case the term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id-central vowe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ay be used instead of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chw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o avoid ambigu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me examples of schwa sounds can be found 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oct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r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/  b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an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/  pr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ect / t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rrow  / diffic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t / s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viv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umm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/ lev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 / theat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/ pup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  / meas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r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/ wiz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>Rafa</cp:lastModifiedBy>
  <dcterms:modified xsi:type="dcterms:W3CDTF">2010-03-24T13:05:39Z</dcterms:modified>
  <cp:revision>19</cp:revision>
  <dc:subject/>
  <dc:title>Estudiamos las palabras invariables</dc:title>
</cp:coreProperties>
</file>