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3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  <a:defRPr b="0" lang="en-GB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9E51DDF3-74A4-4088-8993-8B1A2994F66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DAC4A73F-B8F0-4741-8CF0-5D0A5BB5FD2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5EB7C0A7-AB2B-46B5-8F43-56F3EB8EE76F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3107AB3E-8C53-49B7-8C4D-FA0D948AEA73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D4CC7DFD-6760-4685-BA40-15E23748776B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E23ADCD3-E792-4A57-8A9D-642B6ECE137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084B0B53-10FC-4F5B-BC2E-C39EFD5149B6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A0DCCC2A-B768-45C8-84B8-A8C2B272985A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A8488D3C-4922-4D25-B7F4-BE45669EF71F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8ED60B76-E9B2-4027-8462-E86106801B1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D7D1971D-A3E0-49B6-9B12-2F1859E9BFF8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9BBC23F0-A58B-422F-8B76-F8BEBD1F8B9E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7B7CE-1495-460C-ACBA-422351A7C1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21AEF-D003-4840-AA2F-905C9946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2038-C7A7-43B9-94E3-111A41FD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F190B-BE4C-4209-96D0-AC9B1FACC1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D445E-28D4-4E33-AA8B-652FFEFE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2F2DF-1F7F-407A-B180-3B606D6D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4AA35-0A65-4B03-B923-C560374B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3DD1D-2772-45DB-B02D-5343E2AF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FBEDE-1B2B-446B-97AF-AF462389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FBA4E-720E-4229-84DD-218BD7BC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397F-61AC-4B48-8E55-E5615593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48DE5-4E27-486C-AC8D-EFC0013D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bf7825"/>
              </a:gs>
              <a:gs pos="100000">
                <a:srgbClr val="ffc40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bf9506"/>
              </a:gs>
              <a:gs pos="100000">
                <a:srgbClr val="f4921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2000"/>
              </a:lnSpc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2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808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0520" indent="-20808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F7DF7AE-FAA3-4604-8499-8A501E350A06}" type="slidenum">
              <a: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6583320"/>
            <a:ext cx="586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Paco visits Chica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50920" y="5097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aco had dreamt with this journey before: </a:t>
            </a:r>
            <a:r>
              <a:rPr b="1" lang="es-ES" sz="3600" spc="-1" strike="noStrike">
                <a:solidFill>
                  <a:srgbClr val="336699"/>
                </a:solidFill>
                <a:latin typeface="Arial"/>
              </a:rPr>
              <a:t>Paco visits Chica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1"/>
          <a:stretch/>
        </p:blipFill>
        <p:spPr>
          <a:xfrm>
            <a:off x="4859280" y="2349360"/>
            <a:ext cx="3000600" cy="32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539640" y="404640"/>
            <a:ext cx="8229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336699"/>
                </a:solidFill>
                <a:latin typeface="LilyUPC"/>
              </a:rPr>
              <a:t>Causative have</a:t>
            </a:r>
            <a:r>
              <a:rPr b="1" lang="en-US" sz="4000" spc="-1" strike="noStrike">
                <a:solidFill>
                  <a:srgbClr val="336699"/>
                </a:solidFill>
                <a:latin typeface="LilyUPC"/>
              </a:rPr>
              <a:t> for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24000" y="1844640"/>
            <a:ext cx="8569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he causative have (or also have / get something don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is an unusual structure in Spanish but not in Englis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e use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causative hav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when arranging for someone to do something for u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f we say in Spanish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I cut my hair yesterday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e mean that somebody cut my hair for me and I did not do it myself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owever, in English we should use the causative have structure: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I had my hair cut yesterday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hich implies that I went to the hairdresser and he or she cut my hair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731520"/>
            <a:ext cx="831528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336699"/>
                </a:solidFill>
                <a:latin typeface="LilyUPC"/>
              </a:rPr>
              <a:t>Have / get something done</a:t>
            </a:r>
            <a:endParaRPr b="1" lang="en-US" sz="35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8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he differences between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have and get something don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are that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hav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is a bit more formal than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Have your car repaired soon if you don't want to have an accid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he verb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get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is more usual than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hav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in the imperative for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Get your hair cut now!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395280" y="33336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LilyUPC"/>
              </a:rPr>
              <a:t>1. Question ta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50920" y="1557360"/>
            <a:ext cx="85690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   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stion tags are very common in Englis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y are placed at the end of a sentence and they ask for confirma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m I right? or Do you agree with me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 you have probably deduced, the basic structure to form a question tag 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+)  Positive statement                                    (-)  negative tag?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oday is Sunday,                                                  isn't i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-) Negative statement                                    (+)  positive t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ou don't like pizza,                                                do you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39528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LilyUPC"/>
              </a:rPr>
              <a:t>2. Question ta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95280" y="1916280"/>
            <a:ext cx="813600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onation in question tag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e can change the meaning of a tag question with our voice's intona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ith rising intonation, it sounds like a real questio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 if our intonation falls, it sounds more like a statement that doesn't require a real answer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ONATION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You don't know where Lincoln was born, do you?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 rising    &gt;    real qu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pringfield is a beautiful town,isn't it?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\ falling    &gt;    not a real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95280" y="11592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6699"/>
                </a:solidFill>
                <a:latin typeface="LilyUPC"/>
              </a:rPr>
              <a:t>The schwa sound </a:t>
            </a:r>
            <a:r>
              <a:rPr b="1" lang="es-ES" sz="4000" spc="-1" strike="noStrike">
                <a:solidFill>
                  <a:srgbClr val="336699"/>
                </a:solidFill>
                <a:latin typeface="LilyUPC"/>
              </a:rPr>
              <a:t>[ə].</a:t>
            </a:r>
            <a:r>
              <a:rPr b="0" lang="es-E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395280" y="1773360"/>
            <a:ext cx="81360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chw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s the vowel sound in many lightly pronounced unaccented syllables in words of more than one syllable.It is sometimes signified by the pronunciation "uh" or symbolized by an upside-down rotated e. 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chw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und can be represented by any vowe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mid-central vowel sound (rounded or unrounded) in the middle of the vowel chart, stressed or unstressed. In IPA phonetic transcription, it is written as [ə]. In this case the term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id-central vowe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may be used instead of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chw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o avoid ambigu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me examples of schwa sounds can be found i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oct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r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/  b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an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/  pr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ect / t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orrow  / diffic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t / s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r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vive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summ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r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/ lev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 / theat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/ pup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l  / meas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ure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 / wiz</a:t>
            </a:r>
            <a:r>
              <a:rPr b="1" i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r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93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qui</dc:creator>
  <dc:description/>
  <dc:language>en-US</dc:language>
  <cp:lastModifiedBy>Rafa</cp:lastModifiedBy>
  <dcterms:modified xsi:type="dcterms:W3CDTF">2010-03-24T13:05:39Z</dcterms:modified>
  <cp:revision>19</cp:revision>
  <dc:subject/>
  <dc:title>Estudiamos las palabras invariables</dc:title>
</cp:coreProperties>
</file>