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27240" y="6480000"/>
            <a:ext cx="777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Resolviendo problemas: Determinantes: todo se reduce a un núm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3480" y="720720"/>
            <a:ext cx="833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Resolviendo problemas: Determinantes: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4600" y="3555720"/>
            <a:ext cx="446868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Todo se reduce a un númer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268960" y="2698920"/>
            <a:ext cx="337032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0" y="942480"/>
            <a:ext cx="8238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determinante es un valor numérico que se asigna a una matriz cuadr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4680" y="2273400"/>
            <a:ext cx="368136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s permite saber si existe alguna relación entre las filas y columnas y nos servirá para resolver sistemas y hallar la inversa de una matr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19600" y="2185920"/>
            <a:ext cx="386244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85360" y="813960"/>
            <a:ext cx="7410600" cy="25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determinante de la maytriz cuadrada de orden 2 es igual al producto de los elementos de la diagonal principal menos el producto de los de la diagonal secund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00" y="3373560"/>
            <a:ext cx="2666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el determinante de orden 3 necesitamos la Regla de Sar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87640" y="3100320"/>
            <a:ext cx="43689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7280" y="1157400"/>
            <a:ext cx="82962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l determinante es de orden superior a 3 necesitamos desarrollar por una línea (fila o columna) utilizando los adjuntos de los elementos de la matr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empre es conveniente hacer ceros, usando las propiedades de los determinantes, para desarrollar por una línea con la mayor cantidad de c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9920" y="1085400"/>
            <a:ext cx="79484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método de Gauss se puede aplicar para resolver el determinante. Consiste en triangularizar el determinante, utilizando las propiedades que cump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1720" y="3244680"/>
            <a:ext cx="33386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a vez triangularizado, su valor es el producto de la diagonal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70400" y="3209760"/>
            <a:ext cx="4297320" cy="281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Rafa</cp:lastModifiedBy>
  <dcterms:modified xsi:type="dcterms:W3CDTF">2010-06-14T08:56:49Z</dcterms:modified>
  <cp:revision>32</cp:revision>
  <dc:subject/>
  <dc:title>Diapositiva 1</dc:title>
</cp:coreProperties>
</file>