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08/11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135B34-690C-4CC9-8F44-5CCA0C607C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2589A9-27F1-4C8F-9397-3580EC062F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7335A4-6DDA-475C-BBE6-2980C1F1CC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58AC90-434F-432B-BDBE-54C0491CBF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3B903A-FCFB-4BBE-A5A2-8D29F49F84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043FA0-D03A-47BE-9F3A-B233951AE1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419640" y="6583320"/>
            <a:ext cx="572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Las ideas políticas en el período de entreguer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8144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uropa se tambalea: Las ideas políticas en el período de entregu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29480" y="4226040"/>
            <a:ext cx="1839960" cy="151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02280" y="4290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70120" y="4245120"/>
            <a:ext cx="2211120" cy="140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433680" y="4114800"/>
            <a:ext cx="144612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9040" y="708120"/>
            <a:ext cx="83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Crisis de la democra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447660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edo a la extensión de la Revolución Ru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isis económica: postguerra y crash de Wall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minución de las clases me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dicalización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21440" y="2563920"/>
            <a:ext cx="3390840" cy="21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19040" y="708120"/>
            <a:ext cx="83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Fascismo Italia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3976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ígenes: La situación de postguerra en It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ssolini al poder: La marcha sobre R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s del fascismo: Dictadura total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ísticas y consecuenci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932440" y="2004840"/>
            <a:ext cx="2032200" cy="28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9040" y="708120"/>
            <a:ext cx="83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Nazismo Alem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439092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ígenes: La situación alemana de postguerra, agravada con las condiciones de Versalles y la crisis econó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: “Putsch de la Cervecería”, Mein kampf, radic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tler al poder: Destrucción de la democra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: agresividad exterior, represión y aniquilamineto de las minor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67480" y="2620800"/>
            <a:ext cx="2700360" cy="23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19040" y="708120"/>
            <a:ext cx="83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Estalin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4773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gna entre Trostky y Sta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talin en el poder: inicios de la férrea dictad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purgas y depu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ción de la URS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89560" y="2200320"/>
            <a:ext cx="3360600" cy="22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Aníbal de la Torre</cp:lastModifiedBy>
  <dcterms:modified xsi:type="dcterms:W3CDTF">2010-02-05T09:01:26Z</dcterms:modified>
  <cp:revision>31</cp:revision>
  <dc:subject/>
  <dc:title>Diapositiva 1</dc:title>
</cp:coreProperties>
</file>