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08/11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59A72-3528-4347-BC46-61E88A5BE6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3F6720-C965-43A4-8DC9-CF020523B5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91724-D908-4554-94C3-2C6E8A540F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35BA26-2198-4FEA-8F29-126E71B4E8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C78027-3A4B-43D6-B2C0-ABC6B478AE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DF2E6-9D30-4F56-B73E-015DBBC1E01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19640" y="6583320"/>
            <a:ext cx="57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Las ideas políticas en el período de 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uropa se tambalea: Las ideas políticas en el período de entregu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29480" y="4226040"/>
            <a:ext cx="1839960" cy="151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02280" y="4290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870120" y="4245120"/>
            <a:ext cx="2211120" cy="140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433680" y="4114800"/>
            <a:ext cx="144612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Crisis de la democ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447660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edo a la extensión de la Revolución Ru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isis económica: postguerra y crash de Wall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minución de las clases med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dicalización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21440" y="2563920"/>
            <a:ext cx="339084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Fascismo Itali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3976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ígenes: La situación de postguerra en It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ssolini al poder: La marcha sobre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del fascismo: Dictadura total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acterísticas y consecuenci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932440" y="2004840"/>
            <a:ext cx="2032200" cy="28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Nazismo Alem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43909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ígenes: La situación alemana de postguerra, agravada con las condiciones de Versalles y la crisis econó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o: “Putsch de la Cervecería”, Mein kampf, radic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tler al poder: Destrucción de la democra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: agresividad exterior, represión y aniquilamineto de las minor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67480" y="2620800"/>
            <a:ext cx="2700360" cy="23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9040" y="708120"/>
            <a:ext cx="83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El Estalinis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477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gna entre Trostky y Stal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talin en el poder: inicios de la férrea dictad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purgas y depu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ción de la URS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89560" y="2200320"/>
            <a:ext cx="3360600" cy="22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Aníbal de la Torre</cp:lastModifiedBy>
  <dcterms:modified xsi:type="dcterms:W3CDTF">2010-02-05T09:01:26Z</dcterms:modified>
  <cp:revision>31</cp:revision>
  <dc:subject/>
  <dc:title>Diapositiva 1</dc:title>
</cp:coreProperties>
</file>