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50211" t="33603" r="27525" b="-7557"/>
          <a:stretch/>
        </p:blipFill>
        <p:spPr>
          <a:xfrm>
            <a:off x="6434280" y="6486480"/>
            <a:ext cx="2709720" cy="130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a segunda guerra balcánica (1913)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384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5543640"/>
            <a:ext cx="4038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bia después de la Segunda guerra balc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que fueron aliados en la primera guerra balcánica se enzarzaron en una lucha entre s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acó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eneg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el objetivo de anexionarse los territorios abandonados p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quí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Ésta última, jun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man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unió a Serbia y a Greci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rota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los territorios en disputa pasaron a Serbia. Los tratados de paz facilitaron la formación de un Estado serbio fuerte y ambicioso, pero también infundieron temor y un resentimiento antiserbio en el vecino imperio austrohúng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Usuario</cp:lastModifiedBy>
  <dcterms:modified xsi:type="dcterms:W3CDTF">2009-05-26T17:49:41Z</dcterms:modified>
  <cp:revision>27</cp:revision>
  <dc:subject/>
  <dc:title>Diapositiva 1</dc:title>
</cp:coreProperties>
</file>