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50211" t="33603" r="27525" b="-7557"/>
          <a:stretch/>
        </p:blipFill>
        <p:spPr>
          <a:xfrm>
            <a:off x="6434280" y="6486480"/>
            <a:ext cx="2709720" cy="130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La primera guerra balcánica (1912)</a:t>
            </a:r>
            <a:br>
              <a:rPr sz="4000"/>
            </a:b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contienda enfrentó al bloque compuesto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eneg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cundados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quí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st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Derrotada Turquía hubo de retirarse de la zona y ceder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a salida al mar Eg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822920" y="1727280"/>
            <a:ext cx="3504960" cy="3705120"/>
            <a:chOff x="4822920" y="1727280"/>
            <a:chExt cx="3504960" cy="37051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4822920" y="1727280"/>
              <a:ext cx="3504960" cy="37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4822920" y="1727280"/>
              <a:ext cx="3504960" cy="37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4648320" y="5486040"/>
            <a:ext cx="4038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nzada búlgara a posiciones tur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Usuario</cp:lastModifiedBy>
  <dcterms:modified xsi:type="dcterms:W3CDTF">2009-05-26T17:17:45Z</dcterms:modified>
  <cp:revision>26</cp:revision>
  <dc:subject/>
  <dc:title>Diapositiva 1</dc:title>
</cp:coreProperties>
</file>