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50211" t="33603" r="27525" b="-7557"/>
          <a:stretch/>
        </p:blipFill>
        <p:spPr>
          <a:xfrm>
            <a:off x="6434280" y="6486480"/>
            <a:ext cx="2709720" cy="130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La anexión austro-húngara de Bosnia y Herzegovina (1908)</a:t>
            </a:r>
            <a:br>
              <a:rPr sz="3600"/>
            </a:br>
            <a:br>
              <a:rPr sz="4000"/>
            </a:b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11200" y="160020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nia y Herzegovina eran territorios con mayoría musulmana que habían permanecido bajo dominio turco hasta 1877. A partir de entonces pasaron a depender administrativamente de Austria-Hungría que finalmente, en 1908, los anexionó a su imperio, provocando la frustración de Serbia que aspiraba a integrarlos dentro de 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n Serb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utura Yugoslavia) siguiendo el modelo italiano o alemá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 en la capital  bosnia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rajev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onde se produjo el asesinato del heredero al trono austriac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ancisco Fernan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su esposa a manos de un estudiante bosnio perteneciente a la "Mano Negra", organización secreta nacionalista proserb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Usuario</cp:lastModifiedBy>
  <dcterms:modified xsi:type="dcterms:W3CDTF">2009-05-26T17:04:33Z</dcterms:modified>
  <cp:revision>25</cp:revision>
  <dc:subject/>
  <dc:title>Diapositiva 1</dc:title>
</cp:coreProperties>
</file>