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9DFE-8332-4898-8713-64D32B70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EAA9A-27DF-4E7E-B134-EFEAF8075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6803-C9F8-4BB3-B0B3-8D530B3E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78B9-29B1-452B-96D2-15E9A2EC8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2878-7463-400E-B4ED-B6B7C800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4FDE-2C37-4361-959C-7557A0AB8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7572-549A-4388-97EE-28A383919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4C49-DDAC-497B-9F24-2B72CF490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24AF-12A1-4209-AA5B-C4DD9A32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D879-08F3-4BF9-B5B6-329C07C9D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B2E0-6ADB-4E63-B9B5-D8F072CE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B7A8-22D1-480B-B007-79648AD9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864C3-94ED-41CC-A144-D1CF5F925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43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3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300720" y="645336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Resumen Tema 3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"/>
          <p:cNvSpPr/>
          <p:nvPr/>
        </p:nvSpPr>
        <p:spPr>
          <a:xfrm>
            <a:off x="1403280" y="1197000"/>
            <a:ext cx="6372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d5d7b"/>
                </a:solidFill>
                <a:latin typeface="Arial"/>
              </a:rPr>
              <a:t>Telling </a:t>
            </a:r>
            <a:r>
              <a:rPr b="0" lang="es-ES" sz="4000" spc="-1" strike="noStrike">
                <a:solidFill>
                  <a:srgbClr val="2d5d7b"/>
                </a:solidFill>
                <a:latin typeface="Arial"/>
              </a:rPr>
              <a:t>Stories</a:t>
            </a:r>
            <a:r>
              <a:rPr b="0" lang="es-ES" sz="4000" spc="-1" strike="noStrike">
                <a:solidFill>
                  <a:srgbClr val="2d5d7b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3924360" y="1916280"/>
            <a:ext cx="4465440" cy="33494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468360" y="4005360"/>
            <a:ext cx="548316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ction 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st Continu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nectors of 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53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3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300720" y="645336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Resumen Tema 3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1403280" y="1197000"/>
            <a:ext cx="637236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d5d7b"/>
                </a:solidFill>
                <a:latin typeface="Arial"/>
              </a:rPr>
              <a:t>Action Verb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2133720"/>
            <a:ext cx="831708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on aquellos verbos que expresan algo que una persona, animal o cosa pueden hac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 tener en cuen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n ser acciones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física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run, jump, walk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o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ental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think, believe, fee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ueden ser verbos en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esente, pasado o futur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s-ES" sz="1800" spc="-1" strike="noStrike">
                <a:solidFill>
                  <a:srgbClr val="000000"/>
                </a:solidFill>
                <a:latin typeface="Arial"/>
              </a:rPr>
              <a:t>He run 8 kilometres everyday/He ran 8 kilometres everyday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62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3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300720" y="645336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Resumen Tema 3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4"/>
          <p:cNvSpPr/>
          <p:nvPr/>
        </p:nvSpPr>
        <p:spPr>
          <a:xfrm>
            <a:off x="1403280" y="560520"/>
            <a:ext cx="6372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d5d7b"/>
                </a:solidFill>
                <a:latin typeface="Arial"/>
              </a:rPr>
              <a:t>Past Continuo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44720" y="1125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FFIRMATIVE: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1042920" y="1484280"/>
          <a:ext cx="7201080" cy="4889520"/>
        </p:xfrm>
        <a:graphic>
          <a:graphicData uri="http://schemas.openxmlformats.org/drawingml/2006/table">
            <a:tbl>
              <a:tblPr/>
              <a:tblGrid>
                <a:gridCol w="2362320"/>
                <a:gridCol w="2687760"/>
                <a:gridCol w="215100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ff66"/>
                          </a:solidFill>
                          <a:latin typeface="Arial"/>
                        </a:rPr>
                        <a:t>play</a:t>
                      </a:r>
                      <a:r>
                        <a:rPr b="1" lang="en-US" sz="3200" spc="-1" strike="noStrike" u="sng">
                          <a:solidFill>
                            <a:srgbClr val="ccff66"/>
                          </a:solidFill>
                          <a:uFillTx/>
                          <a:latin typeface="Arial"/>
                        </a:rPr>
                        <a:t>ing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75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er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a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72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3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300720" y="645336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Resumen Tema 3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1403280" y="560520"/>
            <a:ext cx="6372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d5d7b"/>
                </a:solidFill>
                <a:latin typeface="Arial"/>
              </a:rPr>
              <a:t>Past Continuo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844720" y="1125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GATIVE: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258920" y="1484280"/>
          <a:ext cx="6913440" cy="4741920"/>
        </p:xfrm>
        <a:graphic>
          <a:graphicData uri="http://schemas.openxmlformats.org/drawingml/2006/table">
            <a:tbl>
              <a:tblPr/>
              <a:tblGrid>
                <a:gridCol w="1760400"/>
                <a:gridCol w="2793960"/>
                <a:gridCol w="23590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as 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66"/>
                          </a:solidFill>
                          <a:latin typeface="Arial"/>
                        </a:rPr>
                        <a:t>play</a:t>
                      </a:r>
                      <a:r>
                        <a:rPr b="1" lang="en-US" sz="2800" spc="-1" strike="noStrike" u="sng">
                          <a:solidFill>
                            <a:srgbClr val="ccff66"/>
                          </a:solidFill>
                          <a:uFillTx/>
                          <a:latin typeface="Arial"/>
                        </a:rPr>
                        <a:t>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ere 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ere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as no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asn’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82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3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300720" y="645336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Resumen Tema 3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"/>
          <p:cNvSpPr/>
          <p:nvPr/>
        </p:nvSpPr>
        <p:spPr>
          <a:xfrm>
            <a:off x="1403280" y="560520"/>
            <a:ext cx="6372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d5d7b"/>
                </a:solidFill>
                <a:latin typeface="Arial"/>
              </a:rPr>
              <a:t>Past Continuou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844720" y="112536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ROGATIVE: 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187280" y="1628640"/>
          <a:ext cx="6985080" cy="4753080"/>
        </p:xfrm>
        <a:graphic>
          <a:graphicData uri="http://schemas.openxmlformats.org/drawingml/2006/table">
            <a:tbl>
              <a:tblPr/>
              <a:tblGrid>
                <a:gridCol w="2251080"/>
                <a:gridCol w="2014560"/>
                <a:gridCol w="27194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ff66"/>
                          </a:solidFill>
                          <a:latin typeface="Arial"/>
                        </a:rPr>
                        <a:t>play</a:t>
                      </a:r>
                      <a:r>
                        <a:rPr b="1" lang="en-US" sz="2800" spc="-1" strike="noStrike" u="sng">
                          <a:solidFill>
                            <a:srgbClr val="ccff66"/>
                          </a:solidFill>
                          <a:uFillTx/>
                          <a:latin typeface="Arial"/>
                        </a:rPr>
                        <a:t>ing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55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o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1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66"/>
                          </a:solidFill>
                          <a:latin typeface="Arial"/>
                        </a:rPr>
                        <a:t>w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68580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468360" y="0"/>
            <a:ext cx="790560" cy="719280"/>
          </a:xfrm>
          <a:prstGeom prst="rect">
            <a:avLst/>
          </a:prstGeom>
          <a:ln w="0">
            <a:noFill/>
          </a:ln>
        </p:spPr>
      </p:pic>
      <p:pic>
        <p:nvPicPr>
          <p:cNvPr id="92" name="I 1" descr="juntaandalucia_gr.png"/>
          <p:cNvPicPr/>
          <p:nvPr/>
        </p:nvPicPr>
        <p:blipFill>
          <a:blip r:embed="rId3"/>
          <a:stretch/>
        </p:blipFill>
        <p:spPr>
          <a:xfrm>
            <a:off x="8101080" y="93600"/>
            <a:ext cx="900000" cy="5986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73120" y="765000"/>
            <a:ext cx="831996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116000" y="112680"/>
            <a:ext cx="34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2d5d7b"/>
                </a:solidFill>
                <a:latin typeface="Bradley Hand ITC TT"/>
              </a:rPr>
              <a:t>Tema 3. Bloque 8</a:t>
            </a:r>
            <a:r>
              <a:rPr b="0" lang="en-US" sz="3200" spc="-1" strike="noStrike">
                <a:solidFill>
                  <a:srgbClr val="2d5d7b"/>
                </a:solidFill>
                <a:latin typeface="Bradley Hand ITC T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6372360" y="6237360"/>
            <a:ext cx="2743200" cy="1998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6300720" y="6453360"/>
            <a:ext cx="28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d5d7b"/>
                </a:solidFill>
                <a:latin typeface="Bradley Hand ITC TT"/>
              </a:rPr>
              <a:t>Resumen Tema 3. Bloque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1403280" y="703440"/>
            <a:ext cx="6372360" cy="78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2d5d7b"/>
                </a:solidFill>
                <a:latin typeface="Arial"/>
              </a:rPr>
              <a:t>Connectors of Sequen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58920" y="155736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usan para dar una sucesión lógica de eventos. Hacen que el discurso sea más natural y cla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odemos dividir 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troducción de ideas: First (prime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cuencia de eventos: Then (luego), After that (después), Later (más tar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clusión: Finally (finalme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conectores de secuencia van a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principio de la fras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y tienen que ir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seguidos por una com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7-28T15:34:21Z</dcterms:created>
  <dc:creator>Migue</dc:creator>
  <dc:description/>
  <dc:language>en-US</dc:language>
  <cp:lastModifiedBy>Migue</cp:lastModifiedBy>
  <dcterms:modified xsi:type="dcterms:W3CDTF">2016-08-04T10:42:27Z</dcterms:modified>
  <cp:revision>8</cp:revision>
  <dc:subject/>
  <dc:title>Diapositiva 1</dc:title>
</cp:coreProperties>
</file>