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4C5A-7B7F-49C5-993D-368D9648E7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2497-BC39-4940-94C8-6B7DACF61C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BA8-2BFA-47E9-B2A8-B67DA7FFEB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E4B-65BF-40DF-8553-F2C6E0417C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FA1-EE0C-47FF-B44E-2008DE9AE9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24640"/>
            <a:ext cx="43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Di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La teoría atómico-molecular: 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Disolucion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1"/>
          <p:cNvSpPr/>
          <p:nvPr/>
        </p:nvSpPr>
        <p:spPr>
          <a:xfrm>
            <a:off x="609480" y="69696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aracterísticas de las di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isolución es 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cla homogén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dos o más sustancias. Las más importantes son las disoluciones en fase líquida, tanto en la vida diaria como en el laboratorio y la indust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ustancia que se encuentra en mayor proporción es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olv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gua habitualmente. La sustancia que se disuelve se lla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 puede ser sólida (sal común), líquida (alcohol) o gaseosa (ácido clorhídric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isolución se dice que est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lui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ando hay una cantidad pequeña de soluto en una cantidad determinada de disolvente; si la cantidad disuelta es grande, se dice que est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 si ya no se puede disolver más sustancia, se dice que est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57200" y="624852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2895480" y="6248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1 de Benjah-bmm27, dominio púb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4648320"/>
            <a:ext cx="41911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609480" y="696960"/>
            <a:ext cx="586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Medidas de 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mposición de las disoluciones se expresa como una proporción entre la cantidad de soluto disuelta y la cantidad de disolvente utilizado o la cantidad de disolución form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os por litr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e la masa de soluto disuelta por litro de disolvente o de disolución (esto último es lo más habitu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centaje en masa (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ide el porcentaje en masa de soluto respecto de la disolución form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centaje en volumen (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 utiliza cuando el soluto es líquido, caso de las bebidas alcohólicas (etanol) o del vinagre (ácido acétic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ción (mol/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ide la cantidad de sustancia de soluto disuelta por litro de disolució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n/V = d.%/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d en g/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9"/>
          <p:cNvSpPr/>
          <p:nvPr/>
        </p:nvSpPr>
        <p:spPr>
          <a:xfrm>
            <a:off x="457200" y="624852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0"/>
          <p:cNvSpPr/>
          <p:nvPr/>
        </p:nvSpPr>
        <p:spPr>
          <a:xfrm>
            <a:off x="6400800" y="56386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2 de Chris73,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20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1"/>
          <p:cNvSpPr/>
          <p:nvPr/>
        </p:nvSpPr>
        <p:spPr>
          <a:xfrm>
            <a:off x="609480" y="787320"/>
            <a:ext cx="586764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Arial"/>
              </a:rPr>
              <a:t>Preparación de di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e trata de sólidos, se calcula la masa a disolver  en el volumen de disolución a preparar, se disuelve aen una cantidad pequeña de agua y se añade al matraz aforado, que se completa con más agua hasta el afo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iluir disoluciones concentradas, hay que tomar un volumen V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la disolución concentrada, de concentración C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añadir un volumen de agua,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s decir, C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C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 El volumen de la disolución diluida es la suma de los volúmenes mezclados (V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agu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=====&gt;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V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V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9"/>
          <p:cNvSpPr/>
          <p:nvPr/>
        </p:nvSpPr>
        <p:spPr>
          <a:xfrm>
            <a:off x="457200" y="624852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6553080" y="42670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3 de elaboración pr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3276360" cy="1352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0"/>
          <p:cNvSpPr/>
          <p:nvPr/>
        </p:nvSpPr>
        <p:spPr>
          <a:xfrm>
            <a:off x="2362320" y="62326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4 de elaboración pr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1422360"/>
            <a:ext cx="20192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1"/>
          <p:cNvSpPr/>
          <p:nvPr/>
        </p:nvSpPr>
        <p:spPr>
          <a:xfrm>
            <a:off x="609480" y="787320"/>
            <a:ext cx="586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opiedades de las di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olubilidad de los sólidos aumenta con la temperatura, mientras que la de los gases disminuy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limina el disolvente por evaporación, el soluto sólido forma un precipitado en el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olumen de una disolución suele ser menor que el de sus componentes por se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disoluciones tienen un punto de congelación menor que el del disolvente (aplicaciones como añadir sal en las carrete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disoluciones tienen distinta densidad que el disolvente, según cuál sea la densidad del soluto y la cantidad dis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6553080" y="2666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5 de CNICE, uso educ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6477120" y="6095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6 de elaboración pr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622600" cy="174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1943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domus</cp:lastModifiedBy>
  <dcterms:modified xsi:type="dcterms:W3CDTF">2010-06-07T06:53:00Z</dcterms:modified>
  <cp:revision>115</cp:revision>
  <dc:subject/>
  <dc:title>Tema 1. La actividad económica</dc:title>
</cp:coreProperties>
</file>