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5F36-733D-41C3-966F-2E8120555C7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7FA86-ACDC-4F89-BFE4-C285EF22B1B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89BA-450D-4D7B-818E-BCC1C3B5C82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E6209-B25B-48CD-B44C-8C7EA7B0802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66A97-E621-4857-A607-BAE3FCA9457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B6F0B-C9DD-48FE-95C7-E28660D37D3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1AE92-40E8-4B19-B640-087E64707DA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983B6-EB24-4883-B273-A3AFFE0BB90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CC555-5A74-4459-B9FF-4E88C42B6CD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FEF52-C183-4B4D-A4A4-A1C052517B6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5E0BD-8145-4486-A56F-04973627196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57D1-5C12-4DA6-A48B-21D6A5F0078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871EB-91EB-4788-A043-9DE7C115FE0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9A7A2-A677-4FB5-A83E-934BA385A55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3DB71-9A0F-4F4C-8502-28893B44E59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BC23-210E-4BD1-A654-CDF4E94AFC0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4C14E-28B5-40A1-8638-E232DD196A2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9AFEF-9CC3-4E66-B7CF-D5FA04BD61F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768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5271B-7F7B-4AA6-9817-F4B9718655E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Paco arrives in South 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lickr.com/photos/20738022@N00/404431819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79960" y="155736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travels to South Africa: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arrives in South Af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346560" cy="199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372360" y="5373720"/>
            <a:ext cx="196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am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. C. Common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28760" y="2000160"/>
            <a:ext cx="8464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sent Simple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habits, routines, present interests, likes and disli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ject + verb + 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’s family miss him a 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likes Anthropology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sent Continuou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actions occurring at the moment of spe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ject + verb (to be + -ing) 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“I am studying History at University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is flying to South Africa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99"/>
                </a:solidFill>
                <a:latin typeface="Arial"/>
              </a:rPr>
              <a:t>Present Simple vs.</a:t>
            </a:r>
            <a:br>
              <a:rPr sz="4000"/>
            </a:br>
            <a:r>
              <a:rPr b="0" lang="es-ES" sz="4000" spc="-1" strike="noStrike">
                <a:solidFill>
                  <a:srgbClr val="336699"/>
                </a:solidFill>
                <a:latin typeface="Arial"/>
              </a:rPr>
              <a:t>Present Continuou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68360" y="1700280"/>
            <a:ext cx="835164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t Simpl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se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bits, routines, interests, likes and disli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ject + verb + 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’s family miss him a 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likes Anthropology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st Simpl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ctions that started and finished in the past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bits, routines, interests, likes and disli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ject + verb + 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and Andrés used to play tenn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flew in a safe big British plane to the United States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Present Simple vs.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Past Simp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68360" y="1844640"/>
            <a:ext cx="8066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Attributive adjectives: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before the no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.g.: an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Arial"/>
              </a:rPr>
              <a:t>American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business m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Predicative adjectives: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after the verb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.g.: Paco feels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4360" y="2852640"/>
            <a:ext cx="7272360" cy="1224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ecific order according to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.g.: a safe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bi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British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99"/>
                </a:solidFill>
                <a:latin typeface="Arial"/>
              </a:rPr>
              <a:t>Attributive vs. Predicative Adjectiv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Adjectiv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describe a person, you should do it in such a way that, by the time people finish listening to you, they seem to know the per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describing a person, it's important to choose the most suitable ver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escribe a person's general physical appearance, we use the verb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BE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he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t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y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very t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over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escribe a person's specific physical characteristics, we use the verb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HAVE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short brown 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blue e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a big n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escribe a person's personality, we use the verb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BE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he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bad-temp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y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 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9528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st Simple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actions that started and finished in the past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ast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habits, routines, interests, likes and disli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ject + verb + 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and Andrés used to play tenn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flew in a safe big British plane to the United States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st Continuou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actions that were in progress at a specific time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ject + verb + (Indirect Ob.) + (Direct Ob.) + (Comp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The American business man was reading a book when Paco sat d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.g.: Paco was landing when he felt sick (3rd. person singula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Past Simple vs.Past Continuou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68360" y="1916280"/>
            <a:ext cx="82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a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hort adjectives: Adjective + -er th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: Planes ar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afer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rs or co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Long adjectives: more + adjective th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: Travelling by plane i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re expensive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avelling by 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la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Short adjectives: Adjective + -est (in/of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: The car is not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afe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ay of trav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Long adjectives: most + adjective (in/of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: The plane is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st expensi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ans of transport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99"/>
                </a:solidFill>
                <a:latin typeface="Arial"/>
              </a:rPr>
              <a:t>Comparative and Superlative</a:t>
            </a:r>
            <a:br>
              <a:rPr sz="4000"/>
            </a:br>
            <a:r>
              <a:rPr b="0" lang="es-ES" sz="4000" spc="-1" strike="noStrike">
                <a:solidFill>
                  <a:srgbClr val="336699"/>
                </a:solidFill>
                <a:latin typeface="Arial"/>
              </a:rPr>
              <a:t>Adjectiv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Betania</cp:lastModifiedBy>
  <dcterms:modified xsi:type="dcterms:W3CDTF">2014-02-07T09:38:49Z</dcterms:modified>
  <cp:revision>33</cp:revision>
  <dc:subject/>
  <dc:title>Estudiamos las palabras invariables</dc:title>
</cp:coreProperties>
</file>