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0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0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rcRect l="33342" t="16329" r="27525" b="-7018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4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7120" y="6583320"/>
            <a:ext cx="885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Más allá de las formas artísticas: Poniendo un poco de orden: proporción y bell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8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illiam-Adolphe_Bouguereau_(1825-1905)_-_The_Birth_of_Venus_(1879)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lickr.com/photos/beppezizzi/145493363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hyperlink" Target="http://www.flickr.com/photos/66443691@N02/6182132393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davidgon/6123762372/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hyperlink" Target="http://www.flickr.com/photos/andresrueda/5461098877/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La_nascita_di_Venere_(Botticelli)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flickr.com/photos/25559122@N06/2778131223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9600" y="631800"/>
            <a:ext cx="8834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Más allá de las formas artísticas: </a:t>
            </a:r>
            <a:r>
              <a:rPr b="1" lang="es-ES" sz="3800" spc="-1" strike="noStrike">
                <a:solidFill>
                  <a:srgbClr val="336699"/>
                </a:solidFill>
                <a:latin typeface="Arial"/>
              </a:rPr>
              <a:t>Poniendo un poco de orden. Proporción y belleza.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20720" y="2822040"/>
            <a:ext cx="5013360" cy="13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5940360" y="59277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EL Nacimiento de Venus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. Bouguerea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magen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de dominio público vía Wikimedia Common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4470480"/>
            <a:ext cx="5248440" cy="18162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nque el concepto de belleza es una percepción subjetiva y está sujeto a diversos factores sociales y culturales, todos consideramos como bello a aquello que tiene armonía y este concepto está íntimamente relacionada con la proporción. Por eso, ésta constituye uno de los elementos fundamentales del lenguaje visual y plástic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9640" y="2508120"/>
            <a:ext cx="54007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orden, la proporción y la armonía están presentes en la naturaleza. Para un estudiante de Arte, como tú, la capacidad para captar y percibir la belleza que en ella se esconde es una cualidad innata pero también se puede cultivar y desarrollar estudiando y aplicando los métodos adecuad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6270480" y="2214720"/>
            <a:ext cx="253224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76360" y="3600360"/>
            <a:ext cx="2328840" cy="2271960"/>
          </a:xfrm>
          <a:prstGeom prst="rect">
            <a:avLst/>
          </a:prstGeom>
          <a:solidFill>
            <a:srgbClr val="33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732720" y="3384720"/>
            <a:ext cx="2268360" cy="2447640"/>
          </a:xfrm>
          <a:prstGeom prst="rect">
            <a:avLst/>
          </a:prstGeom>
          <a:solidFill>
            <a:srgbClr val="33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4320" y="539640"/>
            <a:ext cx="53053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336699"/>
                </a:solidFill>
                <a:latin typeface="Arial"/>
              </a:rPr>
              <a:t>1. El tamaño de las cos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39640" y="1101600"/>
            <a:ext cx="4500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observas la imagen de un objeto puedes hacerte una idea errónea de su tamaño. Para saberlo tienes, bien que conocer sus dimensiones, bien compararlo con otros objetos conocidos, o bien saber la escala a la que está representad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580000" y="3348000"/>
            <a:ext cx="110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mágenes propi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901960" y="3600360"/>
            <a:ext cx="2903400" cy="824040"/>
          </a:xfrm>
          <a:prstGeom prst="rect">
            <a:avLst/>
          </a:prstGeom>
          <a:solidFill>
            <a:srgbClr val="33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gunas formas tienen diferente tamaño pero mantienen sus proporci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20720" y="5651640"/>
            <a:ext cx="216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magen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de Zeta con licencia CC vía flickr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5219640" y="647640"/>
            <a:ext cx="1462320" cy="271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6840360" y="647640"/>
            <a:ext cx="2038680" cy="271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539640" y="2706840"/>
            <a:ext cx="4500720" cy="820440"/>
          </a:xfrm>
          <a:prstGeom prst="rect">
            <a:avLst/>
          </a:prstGeom>
          <a:solidFill>
            <a:srgbClr val="3333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scala es la relación entre las dimensiones de un dibujo y las dimensiones reales del objeto representa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662040" y="3672000"/>
            <a:ext cx="2181240" cy="1904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2" name="Text Box 12"/>
          <p:cNvSpPr/>
          <p:nvPr/>
        </p:nvSpPr>
        <p:spPr>
          <a:xfrm>
            <a:off x="539640" y="5878440"/>
            <a:ext cx="8460000" cy="612720"/>
          </a:xfrm>
          <a:prstGeom prst="rect">
            <a:avLst/>
          </a:prstGeom>
          <a:solidFill>
            <a:srgbClr val="333366">
              <a:alpha val="20000"/>
            </a:srgbClr>
          </a:solidFill>
          <a:ln w="36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roporción es la relación armónica que existe entre las distintas partes de un elemento o entre éstas y el to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3" descr=""/>
          <p:cNvPicPr/>
          <p:nvPr/>
        </p:nvPicPr>
        <p:blipFill>
          <a:blip r:embed="rId5"/>
          <a:stretch/>
        </p:blipFill>
        <p:spPr>
          <a:xfrm>
            <a:off x="6804000" y="3473280"/>
            <a:ext cx="2106720" cy="2106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4"/>
          <p:cNvSpPr/>
          <p:nvPr/>
        </p:nvSpPr>
        <p:spPr>
          <a:xfrm>
            <a:off x="3132000" y="4881600"/>
            <a:ext cx="3600720" cy="824040"/>
          </a:xfrm>
          <a:prstGeom prst="rect">
            <a:avLst/>
          </a:prstGeom>
          <a:solidFill>
            <a:srgbClr val="33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otras, al aumentar su tamaño, van cambiando las relaciones entre las diferentes partes que las compon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6659640" y="5554800"/>
            <a:ext cx="25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magen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de nulladiessinelinea licencia cc vía flickr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71600" y="1260360"/>
            <a:ext cx="8586720" cy="3311640"/>
          </a:xfrm>
          <a:prstGeom prst="rect">
            <a:avLst/>
          </a:prstGeom>
          <a:noFill/>
          <a:ln w="36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0720" y="1619280"/>
            <a:ext cx="46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os objetos en general y en el arte se consideran formas semejantes a aquel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tienen igual o similar forma p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ferente tamañ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60360" y="61128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Arial"/>
              </a:rPr>
              <a:t>2. Proporcionalidad y semejanz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380360" y="4140360"/>
            <a:ext cx="165564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magen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De David G.Neguill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n licencia CC  vía flick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4390920" y="1839960"/>
            <a:ext cx="2559240" cy="191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6840360" y="1414440"/>
            <a:ext cx="2044800" cy="2725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5184720" y="3746520"/>
            <a:ext cx="1655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Imagen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de Andres Rued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n licencia CC  vía flick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040360" y="4680000"/>
            <a:ext cx="3779640" cy="1461960"/>
          </a:xfrm>
          <a:prstGeom prst="rect">
            <a:avLst/>
          </a:prstGeom>
          <a:solidFill>
            <a:srgbClr val="3333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geometría son semejantes aquellas figuras que tienen sus lados directamente proporcionales y los ángulos comprendidos entre ellos igu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647640" y="3564000"/>
            <a:ext cx="4410000" cy="2581200"/>
          </a:xfrm>
          <a:prstGeom prst="rect">
            <a:avLst/>
          </a:prstGeom>
          <a:solidFill>
            <a:srgbClr val="3333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5"/>
          <a:stretch/>
        </p:blipFill>
        <p:spPr>
          <a:xfrm>
            <a:off x="752400" y="3830760"/>
            <a:ext cx="4181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211640" y="2016000"/>
            <a:ext cx="4597560" cy="4097520"/>
          </a:xfrm>
          <a:prstGeom prst="rect">
            <a:avLst/>
          </a:prstGeom>
          <a:solidFill>
            <a:srgbClr val="3333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6800" y="371520"/>
            <a:ext cx="846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Arial"/>
              </a:rPr>
              <a:t>3. El secreto de la belleza: el número de oro.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25600" y="116352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número phi o número de oro, que está presente en numerosas formaciones naturales, es un valor que desde antiguo se asoció con las proporciones más hermosa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319640" y="5867280"/>
            <a:ext cx="45003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laboración propia a partir de una </a:t>
            </a:r>
            <a:r>
              <a:rPr b="0" lang="es-ES" sz="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magen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e dominio público vía Wikipedi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752400" y="1871640"/>
            <a:ext cx="2847960" cy="2268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211640" y="2109960"/>
            <a:ext cx="4500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e hecho llevó a artistas de todas las épocas a  aplicarlo en sus creaciones como garantía de belleza y armoní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844560" y="4140360"/>
            <a:ext cx="25750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magen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de sammydavisdog con licencia CC vía flick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4352760" y="3114720"/>
            <a:ext cx="4276800" cy="2743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360360" y="530064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45960" y="4471920"/>
            <a:ext cx="3757680" cy="2260800"/>
          </a:xfrm>
          <a:prstGeom prst="rect">
            <a:avLst/>
          </a:prstGeom>
          <a:noFill/>
          <a:ln w="18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partir del segmento áureo podemos tazar un rectángulo áur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5"/>
          <a:stretch/>
        </p:blipFill>
        <p:spPr>
          <a:xfrm>
            <a:off x="1138320" y="5094360"/>
            <a:ext cx="243036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7020000" y="2195640"/>
            <a:ext cx="2030400" cy="3384360"/>
          </a:xfrm>
          <a:prstGeom prst="rect">
            <a:avLst/>
          </a:prstGeom>
          <a:solidFill>
            <a:srgbClr val="33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0360" y="579240"/>
            <a:ext cx="52322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Arial"/>
              </a:rPr>
              <a:t>4. La proporción en el arte.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020000" y="5292720"/>
            <a:ext cx="21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magen de magvil con licencia cc vía flick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20720" y="6141960"/>
            <a:ext cx="28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magen de nulladiessinelinea con licencia cc vía flick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0360" y="1204920"/>
            <a:ext cx="7556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proporcionar una obra existen dos métodos diferentes: el canon y el módul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60360" y="2195640"/>
            <a:ext cx="6659640" cy="577800"/>
          </a:xfrm>
          <a:prstGeom prst="rect">
            <a:avLst/>
          </a:prstGeom>
          <a:solidFill>
            <a:srgbClr val="33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l canon tomamos una parte de la forma que es la que empleamos como unidad de medida y la relacionamos con el to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892680" y="4361040"/>
            <a:ext cx="28796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l módulo, una forma previamente diseñada, se repite de manera constante en la figura o composi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7145280" y="2365200"/>
            <a:ext cx="1806480" cy="2848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401760" y="2892600"/>
            <a:ext cx="3322440" cy="3186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60360" y="1549440"/>
            <a:ext cx="3071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336699"/>
                </a:solidFill>
                <a:latin typeface="Arial"/>
              </a:rPr>
              <a:t>La figura human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95280" y="2300400"/>
            <a:ext cx="2933640" cy="2558880"/>
          </a:xfrm>
          <a:prstGeom prst="rect">
            <a:avLst/>
          </a:prstGeom>
          <a:solidFill>
            <a:srgbClr val="6666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546120"/>
            <a:ext cx="6480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336699"/>
                </a:solidFill>
                <a:latin typeface="Arial"/>
              </a:rPr>
              <a:t>Proporción y equilibrio compositivo.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47640" y="4680000"/>
            <a:ext cx="24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28480" y="2487600"/>
            <a:ext cx="2692440" cy="186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325680" y="2300400"/>
            <a:ext cx="5580360" cy="1550880"/>
          </a:xfrm>
          <a:prstGeom prst="rect">
            <a:avLst/>
          </a:prstGeom>
          <a:solidFill>
            <a:srgbClr val="6666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zona de la imagen que atrae la atención del espectador es lo que se conoce como centro de interés y articula la composi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, además, éste se sitúa en uno de los puntos de la sección áurea del encuadre se consigue un equilibrio dinámico en la composi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00000" y="5111640"/>
            <a:ext cx="46800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elementos de una composición pueden tener distintos pesos visuales, determinados por el tamaño, la forma o el color que se compensan como si de una balanza se tratar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03280" y="1339920"/>
            <a:ext cx="8640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lograr la armonía y el equilibrio en una composición es necesario conseguir una proporcionada distribución de los elementos que la componen, una adecuada compensación de los pesos visuales y una correcta ubicación del centro o centros de interé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5818320" y="3903840"/>
            <a:ext cx="3020760" cy="2106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5734080" y="6093000"/>
            <a:ext cx="3265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laboración propia a partir de una imagen de dominio público en Wikimedia Common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60360" y="4535640"/>
            <a:ext cx="306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laboración propia a partir de una imagen de dominio público en Wikiped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720720"/>
            <a:ext cx="774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336699"/>
                </a:solidFill>
                <a:latin typeface="Arial"/>
              </a:rPr>
              <a:t>Las proporciones del rostro.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60360" y="1606680"/>
            <a:ext cx="845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rostro existen unas proporciones básicas que, con pequeñas diferencias, son semejantes en todas las personas, aunque las dimensiones varían de unas a otras y son éstas las que determinan los rasgos distintivos que nos diferenci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680000" y="2519280"/>
            <a:ext cx="3797280" cy="2530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674640" y="2982960"/>
            <a:ext cx="3646440" cy="1878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rizontalmen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37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anchura de la nariz viene a ser una quinta parte del ancho de la ca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37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ojos ocupan aproxim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espacios contiguos a és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37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eparación entre los ojos sue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r igual al ancho de la nari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6320" y="5153040"/>
            <a:ext cx="8280360" cy="126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erticalmen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37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línea de los ojos divide al óvalo en dos partes igu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37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línea de las cejas está aproximadamente a la misma altura que la parte             superior de las orej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37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uarto inferior está ocupado por la boca y la barbil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940360" y="5003640"/>
            <a:ext cx="110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mágenes propi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equipo</cp:lastModifiedBy>
  <dcterms:modified xsi:type="dcterms:W3CDTF">2011-12-12T20:38:41Z</dcterms:modified>
  <cp:revision>50</cp:revision>
  <dc:subject/>
  <dc:title>Diapositiva 1</dc:title>
</cp:coreProperties>
</file>