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-360" y="-9407520"/>
            <a:ext cx="360" cy="20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695160"/>
            <a:ext cx="1440" cy="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695160"/>
            <a:ext cx="1440" cy="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18680" y="371520"/>
            <a:ext cx="83106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33342" t="16329" r="27525" b="0"/>
          <a:stretch/>
        </p:blipFill>
        <p:spPr>
          <a:xfrm>
            <a:off x="4381560" y="6456240"/>
            <a:ext cx="4762440" cy="160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4181400" y="438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5148360" y="6524640"/>
            <a:ext cx="3995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336699"/>
                </a:solidFill>
                <a:latin typeface="Trebuchet MS"/>
              </a:rPr>
              <a:t>Nietzs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7152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353880" y="0"/>
            <a:ext cx="2076480" cy="6494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419040" y="596880"/>
            <a:ext cx="8612280" cy="144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8058240" y="0"/>
            <a:ext cx="95076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28760" y="492120"/>
            <a:ext cx="871524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08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336699"/>
                </a:solidFill>
                <a:latin typeface="Arial"/>
              </a:rPr>
              <a:t>Del Idealismo a la Filosofía analítica:</a:t>
            </a:r>
            <a:br>
              <a:rPr sz="3600"/>
            </a:br>
            <a:r>
              <a:rPr b="1" lang="es-ES" sz="3600" spc="-1" strike="noStrike">
                <a:solidFill>
                  <a:srgbClr val="336699"/>
                </a:solidFill>
                <a:latin typeface="Arial"/>
              </a:rPr>
              <a:t>Nietzsch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857920" y="2151000"/>
            <a:ext cx="2781360" cy="378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19040" y="369720"/>
            <a:ext cx="8315280" cy="14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568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336699"/>
                </a:solidFill>
                <a:latin typeface="Arial"/>
              </a:rPr>
              <a:t>Vida y ob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1440000"/>
            <a:ext cx="5302080" cy="53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1844-19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ilólo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lación con Wagn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sume Romanticismo y Positivism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La vida, la pasión y los sentidos por encima de la raz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tapas en su obr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Noche, mediodía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940360" y="1440000"/>
            <a:ext cx="2879640" cy="46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19040" y="369720"/>
            <a:ext cx="8580600" cy="14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568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336699"/>
                </a:solidFill>
                <a:latin typeface="Arial"/>
              </a:rPr>
              <a:t>Crítica a la tradición occident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440000"/>
            <a:ext cx="6022800" cy="46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 la separación “mundo verdadero”/ “mundo aparent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Crítica a la tradición socrático-platón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 la moral tradic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Opuesta a la vida, de déb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l cristianism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Enemigo de esta vida, propone otra mej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480000" y="1800360"/>
            <a:ext cx="251964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60360" y="360360"/>
            <a:ext cx="8315280" cy="14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568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336699"/>
                </a:solidFill>
                <a:latin typeface="Arial"/>
              </a:rPr>
              <a:t>Apolíneo y dionisíac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484280"/>
            <a:ext cx="5302080" cy="58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ucha en nuestra civilización ent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polo: razón, luz, claridad, serenidad, medi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ionisos: sinrazón, embriaguez, exces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riunfa lo apolíneo por culpa de Sócrates-Platón-cristianism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826240" y="1440000"/>
            <a:ext cx="3174840" cy="257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19040" y="369720"/>
            <a:ext cx="8315280" cy="14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568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336699"/>
                </a:solidFill>
                <a:latin typeface="Arial"/>
              </a:rPr>
              <a:t>Los valo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600200"/>
            <a:ext cx="5122800" cy="52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oral de esclavos / moral de señ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tudio filológ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o “bueno” y “malo” original cambiaron y se introdujo componente mo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ritica esta transmutación de valores judeo-cristia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318280" y="1619280"/>
            <a:ext cx="3681360" cy="321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19040" y="369720"/>
            <a:ext cx="8315280" cy="14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568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336699"/>
                </a:solidFill>
                <a:latin typeface="Arial"/>
              </a:rPr>
              <a:t>La voluntad de pod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1440000"/>
            <a:ext cx="5122800" cy="71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vida es voluntad de po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 en sentido biológ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ristianismo y tradición platónica como enemigos de esta volunt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upone un fenómeno mo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580000" y="1824120"/>
            <a:ext cx="341964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60360" y="392040"/>
            <a:ext cx="8315280" cy="14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568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336699"/>
                </a:solidFill>
                <a:latin typeface="Arial"/>
              </a:rPr>
              <a:t>El superhombre y la muerte de Di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60360" y="1800360"/>
            <a:ext cx="5580000" cy="43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utura llegada de una nueva mo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Un hombre que vivirá conforme a la voluntad de po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uelta a inocencia primiti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ios ha muer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Ya no es preceptor mo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119640" y="1800360"/>
            <a:ext cx="2880000" cy="25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19040" y="369720"/>
            <a:ext cx="8315280" cy="14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568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336699"/>
                </a:solidFill>
                <a:latin typeface="Arial"/>
              </a:rPr>
              <a:t>El eterno retorn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1600200"/>
            <a:ext cx="8229600" cy="46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799"/>
              </a:spcBef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cupera mito antig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 al tiempo lineal cristiano con fi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uerto Dios, solamente tenemos esta vi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fensa de esta misma vi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torno cíclico de la vida de forma eter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19:25:37Z</dcterms:created>
  <dc:creator>pc</dc:creator>
  <dc:description/>
  <dc:language>en-US</dc:language>
  <cp:lastModifiedBy> </cp:lastModifiedBy>
  <dcterms:modified xsi:type="dcterms:W3CDTF">2011-02-15T10:35:09Z</dcterms:modified>
  <cp:revision>27</cp:revision>
  <dc:subject/>
  <dc:title>Diapositiva 1</dc:title>
</cp:coreProperties>
</file>