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1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2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F6BE6C50-ACCC-45DF-BBBD-58429311658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A5AD2820-BCCB-4378-846C-2A5AA230FA9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CD5812E3-4137-462F-8613-7618BFE56C5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6A561188-B54F-48EB-AF04-F2969D9C479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124D0FAD-5EB4-4880-81B6-D6954D5304D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06375F48-ED8F-48B3-A4AD-19E9042946D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B696B4C1-D11B-4AB1-BE92-4231F94DDE3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06ED107C-947E-4013-B151-FD92A4A87A7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E3F52439-00D2-4B60-A60B-618ACD3C749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71640" y="6524640"/>
            <a:ext cx="8172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rebuchet MS"/>
              </a:rPr>
              <a:t>Airport Authorities had cancelled some flights because of bad weather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9640" y="62064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aco had dreamt with this journey befo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3600" spc="-1" strike="noStrike">
                <a:solidFill>
                  <a:srgbClr val="336699"/>
                </a:solidFill>
                <a:latin typeface="Arial"/>
              </a:rPr>
              <a:t>Airport Authorities had cancelled some flights because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3600" spc="-1" strike="noStrike">
                <a:solidFill>
                  <a:srgbClr val="336699"/>
                </a:solidFill>
                <a:latin typeface="Arial"/>
              </a:rPr>
              <a:t>bad weather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484360" y="3608280"/>
            <a:ext cx="44640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76201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7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336699"/>
                </a:solidFill>
                <a:latin typeface="Arial"/>
              </a:rPr>
              <a:t>Past Perfect Tense</a:t>
            </a:r>
            <a:endParaRPr b="1" lang="en-US" sz="3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78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is tense is formed using two components: the auxiliary verb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in the past tense), and th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ast particip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orm of a verb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d finished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my exercise when my friends called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y fathe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d bought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some bread before we met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th a regular verb the past participle ends i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-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just like the simple past)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rregular verb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ave a special past participle form that you have to learn by heart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816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336699"/>
                </a:solidFill>
                <a:latin typeface="Arial"/>
              </a:rPr>
              <a:t>Conditional sentences type III</a:t>
            </a:r>
            <a:endParaRPr b="1" lang="en-US" sz="3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8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member that conditional sentences types 1 and 2 are possible to fulfi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former are possible and very likely that the condition will be fulfi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he will do the shopping with us if she is early 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 the latter are also possible but very unlikely that the condition will be fulfi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 would help her with the homework if she finished her meal now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wever, conditional sentences type 3 are impossible because they refer to the p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t is used to express a hypothetical result to a past given situation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 would not have had an accident if he had driven more slowly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500040" y="404640"/>
            <a:ext cx="803268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</a:rPr>
              <a:t>Passive voic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</a:rPr>
              <a:t>present and past t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900000" y="1844640"/>
            <a:ext cx="7488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Constantia"/>
              </a:rPr>
              <a:t>Uses of the passive voic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Passive voice is used when the focus is on the action: who or what is performing the action is not relevant, important or know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                        </a:t>
            </a:r>
            <a:r>
              <a:rPr b="0" i="1" lang="es-ES" sz="1600" spc="-1" strike="noStrike">
                <a:solidFill>
                  <a:srgbClr val="000000"/>
                </a:solidFill>
                <a:latin typeface="Constantia"/>
              </a:rPr>
              <a:t>My car was stolen.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In the example above, the focus is on the fact that my car was stolen. However, I do not know who did it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nstantia"/>
              </a:rPr>
              <a:t>Form of the passive 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As you may have deduced, the basic form of the passive voice is subject + finite form of to be + Past Participle: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s-ES" sz="1600" spc="-1" strike="noStrike">
                <a:solidFill>
                  <a:srgbClr val="000000"/>
                </a:solidFill>
                <a:latin typeface="Constantia"/>
              </a:rPr>
              <a:t>Van Gogh painted this picture (ACTIVE VOIC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onstantia"/>
              </a:rPr>
              <a:t>This picture was painted by Van Gogh (PASSIVE VOICE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3500280"/>
            <a:ext cx="8228160" cy="63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Arial"/>
              </a:rPr>
              <a:t>Suffixes</a:t>
            </a:r>
            <a:endParaRPr b="1" lang="en-US" sz="3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0040" y="1428840"/>
            <a:ext cx="82281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causative is a common structure in English. It is used when one thing or person causes another thing or person to do something, that is to say, when we speak about a professional service which someone has done for u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y parents are having their house repaired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It means that my parents have asked to somebody to repair their house)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09480" y="428760"/>
            <a:ext cx="82281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336699"/>
                </a:solidFill>
                <a:latin typeface="Calibri"/>
              </a:rPr>
              <a:t>Have / get something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42960" y="4143240"/>
            <a:ext cx="822816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uffixes are groups of letters attached to the end of roots, words, and word groups. Suffixes serve a grammatical function. A suffix can indicate what part of speech (noun, verb, adjective, adverb) the word belongs 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-al, -tious, -tive, -ly, 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Economical, ambitious, enjoyable, lovely, sen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336699"/>
                </a:solidFill>
                <a:latin typeface="Arial"/>
              </a:rPr>
              <a:t>Question  tags</a:t>
            </a:r>
            <a:endParaRPr b="1" lang="en-US" sz="3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278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question tag is a special construction in English. It is placed at the end of the sent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e use tag questions at the end of statements to ask for confirmation. They mean something like: "Am I right?" or "Do you agree?" We always use  an auxiliary verb to form a question ta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y are very common in Engli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ir basic structur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+) Positive statement, (-) negative ta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r sister is at home, isn’t s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-)  Negative statement,(+) positive ta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 don't like pizza, do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Rafa</cp:lastModifiedBy>
  <dcterms:modified xsi:type="dcterms:W3CDTF">2010-03-24T07:55:06Z</dcterms:modified>
  <cp:revision>23</cp:revision>
  <dc:subject/>
  <dc:title>Estudiamos las palabras invariables</dc:title>
</cp:coreProperties>
</file>