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21200" y="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91800" y="768240"/>
            <a:ext cx="511164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2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55141-7193-45C1-B5B3-09913DE4B7EA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E0B98-B5B4-49EF-8724-7B39776C514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A6D9D-03EB-445B-B9F4-9E6419D4690A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70BB-39D6-4718-BEE4-5AB271241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42E1-5632-4C54-B987-B55A0BE42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A9A9-42BE-4FB7-A552-3C2AEEC5A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D3A8-928F-4317-9C21-4C227B7B6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D86C-7FC1-4C10-A002-3D6681E7A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89F7-5256-4367-95EB-359F4B089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DBCD-3543-48F4-B4BB-25DBE41AA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2531-42EE-48E2-95C3-1B479D5C8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1592-79C5-4B9E-B2BF-2485A002B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7B93-8DDB-4A6D-8761-4B3FA275F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E1BE-A6EC-46D5-B4A6-2CB541A70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435A-3EE0-4017-B7B9-0BEA20382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46240"/>
            <a:ext cx="8226360" cy="1598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24967-16A1-44C9-870E-7A8153F07A9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6583320"/>
            <a:ext cx="601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Aprendemos técnicas para comprender tex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1457280"/>
            <a:ext cx="83152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  <a:ea typeface="Arial Unicode MS"/>
              </a:rPr>
              <a:t>Comunicación y lenguaje (I): Aprendemos técnicas para comprender tex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4360" y="692280"/>
            <a:ext cx="81356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2000"/>
              </a:lnSpc>
              <a:spcBef>
                <a:spcPts val="8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"/>
                <a:ea typeface="Arial Unicode MS"/>
              </a:rPr>
              <a:t>Estrategias de comprensión de textos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- Fun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Facilitan la comprensión del tex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Posibilitan que el texto sea más entreteni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- Tip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Lectura aten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Subray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Mapa concept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Esque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Resu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11280" y="981000"/>
            <a:ext cx="822780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2000"/>
              </a:lnSpc>
              <a:spcBef>
                <a:spcPts val="8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"/>
                <a:ea typeface="Arial Unicode MS"/>
              </a:rPr>
              <a:t>Lectura y subrayado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Permiten retener las ideas principales y eliminar las secundar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Es importante emplear colores para destacar las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ubray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Recurso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5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  <a:ea typeface="Arial Unicode MS"/>
              </a:rPr>
              <a:t>Lee lo subrayado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5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  <a:ea typeface="Arial Unicode MS"/>
              </a:rPr>
              <a:t>¿Engloba lo más importante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5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  <a:ea typeface="Arial Unicode MS"/>
              </a:rPr>
              <a:t>Si es así, el subrayado es correcto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16000" y="981000"/>
            <a:ext cx="7074000" cy="57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2000"/>
              </a:lnSpc>
              <a:spcBef>
                <a:spcPts val="8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"/>
                <a:ea typeface="Arial Unicode MS"/>
              </a:rPr>
              <a:t>Memorización del texto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2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2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- Debes emplea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2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a) Esquem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2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b) Mapa conceptu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2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2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- ¿Qué s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2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a) Representaciones gráficas de lo escrit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2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b) Extraordinario recurso mnemotécnic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1052640"/>
            <a:ext cx="785808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2000"/>
              </a:lnSpc>
              <a:spcBef>
                <a:spcPts val="8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"/>
                <a:ea typeface="Arial Unicode MS"/>
              </a:rPr>
              <a:t>Resumen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Recoge solo las ideas importantes del tex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Se caracteriza por la breve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No debe incluir opiniones person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Se redacta (preferentemente) en un solo párraf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Repite lo que se dice en el texto original, pero empleando palabras prop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>USUARIO</cp:lastModifiedBy>
  <dcterms:modified xsi:type="dcterms:W3CDTF">2010-09-22T10:54:38Z</dcterms:modified>
  <cp:revision>12</cp:revision>
  <dc:subject/>
  <dc:title>Tema 4. Aprendemos tecnicas para comprender los textos</dc:title>
</cp:coreProperties>
</file>