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CACB8-776E-48AC-B65B-44A514A60E6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C4A7C-5D7D-4ECD-BC0A-4409C92436B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D33EA-C0C5-4DE5-ACFC-801793B49F9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8B4F-0F24-4B91-A814-5E8E81DE6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3818-BD53-4A3E-800F-7E320B0E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9484-BF00-49F4-81C0-48EB0BF89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69A9-B1FD-4D46-AB51-27DE0B16F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FE4F-354E-4F8E-80FE-59ACE5B28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2FC9-FDCE-4ECF-B981-8E32CA051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B45A-CF4E-48FF-A671-88B5D9D28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39F9-D5C3-44F2-87C4-CBDF49583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AAFB-7186-426B-A596-840ACCA95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F57C-5F15-4D24-9D76-630F99776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D69B-69F2-4047-B02B-54E9A1C0C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2A88-DC8D-4D66-8C58-61F56F27B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992FF-69BA-4697-BE6D-67E341ABE7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6583320"/>
            <a:ext cx="60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Aprendemos técnicas para comprender tex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457280"/>
            <a:ext cx="8315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municación y lenguaje (I): Aprendemos técnicas para comprender tex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692280"/>
            <a:ext cx="81356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Estrategias de comprensión de texto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Fun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Facilitan la comprensión del tex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Posibilitan que el texto sea más entreten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- Tip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Lectura at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ubray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Mapa concep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Esqu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su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981000"/>
            <a:ext cx="822780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Lectura y subrayado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Permiten retener las ideas principales y eliminar las secunda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Es importante emplear colores para destacar las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ubray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curso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  <a:ea typeface="Arial Unicode MS"/>
              </a:rPr>
              <a:t>Lee lo subrayad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  <a:ea typeface="Arial Unicode MS"/>
              </a:rPr>
              <a:t>¿Engloba lo más important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  <a:ea typeface="Arial Unicode MS"/>
              </a:rPr>
              <a:t>Si es así, el subrayado es correct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981000"/>
            <a:ext cx="707400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Memorización del texto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Debes emplea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a) Esquem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b) Mapa conceptu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¿Qué 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a) Representaciones gráficas de lo escri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b) Extraordinario recurso mnemotécn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052640"/>
            <a:ext cx="7858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Resum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coge solo las ideas importantes del tex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caracteriza por la brev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No debe incluir opiniones pers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redacta (preferentemente) en un solo párra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pite lo que se dice en el texto original, pero empleando palabras prop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USUARIO</cp:lastModifiedBy>
  <dcterms:modified xsi:type="dcterms:W3CDTF">2010-09-22T10:54:38Z</dcterms:modified>
  <cp:revision>12</cp:revision>
  <dc:subject/>
  <dc:title>Tema 4. Aprendemos tecnicas para comprender los textos</dc:title>
</cp:coreProperties>
</file>