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5F911-B667-4FFD-B683-4F5D42FB1F0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E963-11B1-4033-8CB5-58EAAD6190C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86735-E1C7-4760-90DE-AAD1F80121D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9688-9AFD-418E-BC09-F4CF7D008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1275-614F-4009-AA4A-F6FEA489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60C8-9FBA-4878-9572-1D63C1663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909F-B18E-40D8-932E-0171C62CC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CF15-8966-4ABC-B656-EA9D1FFC7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D76A-14FC-431A-ADB0-37D62AA72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8134-0CE2-482F-975D-11D9AEBF7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B8F9-4A5A-4975-875A-6C745F72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E70B-F483-4280-9054-C12C5BF4F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101F-D6A2-4F5C-867B-539A932DB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99CF-CB5E-42ED-A175-B8C46559F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55BD-6C3D-4BD9-9093-367654E8F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1DF96-E5F3-417F-A34F-69172EAFE1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6583320"/>
            <a:ext cx="51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Nos relacionamos como ser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commons.wikimedia.org/wiki/User:Emuzesto" TargetMode="External"/><Relationship Id="rId3" Type="http://schemas.openxmlformats.org/officeDocument/2006/relationships/hyperlink" Target="http://es.wikipedia.org/wiki/Creative_Commons" TargetMode="External"/><Relationship Id="rId4" Type="http://schemas.openxmlformats.org/officeDocument/2006/relationships/hyperlink" Target="http://creativecommons.org/licenses/by-sa/1.0/deed.es" TargetMode="External"/><Relationship Id="rId5" Type="http://schemas.openxmlformats.org/officeDocument/2006/relationships/hyperlink" Target="http://creativecommons.org/licenses/by-sa/2.0/deed.es" TargetMode="External"/><Relationship Id="rId6" Type="http://schemas.openxmlformats.org/officeDocument/2006/relationships/hyperlink" Target="http://creativecommons.org/licenses/by-sa/2.5/deed.es" TargetMode="External"/><Relationship Id="rId7" Type="http://schemas.openxmlformats.org/officeDocument/2006/relationships/hyperlink" Target="http://es.wikipedia.org/wiki/Archivo:Communication_shannon-weaver2.svg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95400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Nos relacionamos como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seres soci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907920"/>
            <a:ext cx="772956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0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4100" spc="-1" strike="noStrike">
                <a:solidFill>
                  <a:srgbClr val="000000"/>
                </a:solidFill>
                <a:latin typeface="Arial"/>
                <a:ea typeface="Arial Unicode MS"/>
              </a:rPr>
              <a:t>Comunicació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Facultad que permite a la persona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Intercambiar información con sus semej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Constituir un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40" y="836640"/>
            <a:ext cx="8643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2000"/>
              </a:lnSpc>
              <a:spcBef>
                <a:spcPts val="77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Forma de comunicación de los seres human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Tipos de lenguaj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) No verbal: gestos, expresiones, posturas, imágenes, olore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) Verbal: las palab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El lenguaje tiene su realización concreta en l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o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idiom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Cada individuo emplea la lengua de una forma peculiar; es el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bl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39304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Elementos de la comunicació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1700280"/>
          <a:ext cx="8429760" cy="43736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437364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: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Einar Faanes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licencia Creative Commons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versiones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1.0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2.0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2.5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/>
                        </a:rPr>
                        <a:t>wikipe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la derecha) emite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e llega hasta el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la izquierda), a través de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l codificador) en una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lajada entre ambos. Sin embargo, dicho mensaje no llega de forma clara porque hay un elemento perturbador: el rayo, que actúa sobre el canal y origina interferencias; es decir, ruidos. Evidentemente, como puedes ver en la imagen, el receptor, a su vez, puede responder, de forma que se convierte en emiso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981000"/>
            <a:ext cx="7201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turbaciones en la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773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n contando con todos los elementos de la comunicación, puede ocurrir que esta sea impedida o al menos dificultada por una serie de elementos externos que se conocen com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urb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500280"/>
            <a:ext cx="7129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ntentar contrarrestar sus efectos, empleamos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und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evamos la voz, repetimos la frase, subrayamos el texto, empleamos mayúsculas, etcét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268280"/>
            <a:ext cx="81439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Nos comunicamos con distintas intencion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Son las 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funciones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del lenguaj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Representativa o refer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Expres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Conativa o apel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Metalingüís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Fática o de conta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oé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19280" y="1341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s sig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421000"/>
            <a:ext cx="67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gno consta de dos part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aquello que percibimos por los sentidos. Puedes ver la luz del semáforo, del mismo modo que la cruz de la farmacia o las let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lo que es lo mismo, la idea que queremos representar por medio del sig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  <a:ea typeface="Arial Unicode MS"/>
              </a:rPr>
              <a:t>Tipos de sig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ntro de los sign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 lingüíst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vamos a diferenciar tres clas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dic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Son signos naturales en los que se establece una relación natural entre el significante y el significado: el humo es un indicio de que hay fue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co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Han sido creados artificialmente por el ser humano. Se caracterizan porque existe un parecido físico entre el significante y el signifi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ímbo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También han sido creados por el hombre. En ellos, no hay relación ni parecido entre el significante y el significado, como ocurre en la mayor parte de las señales de circul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9040" y="460440"/>
            <a:ext cx="83152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  <a:ea typeface="Arial Unicode MS"/>
              </a:rPr>
              <a:t>Características del signo lingüís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igno lingüís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rbitra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nven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u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ine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rticul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USUARIO</cp:lastModifiedBy>
  <dcterms:modified xsi:type="dcterms:W3CDTF">2010-09-22T10:53:27Z</dcterms:modified>
  <cp:revision>12</cp:revision>
  <dc:subject/>
  <dc:title>Tema 1. Nos relacionamos como seres sociales</dc:title>
</cp:coreProperties>
</file>