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67153-855D-44D7-B50B-27E442259903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61F6A-3FFD-41A5-BAB3-737BDE88FF4F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4F42C-9786-4DE4-8BB0-CC5A8D3BB59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EA11-77F1-448D-858F-B4F5BB9F4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B088-08B3-4205-921C-B59FCC448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0DAB-AF9B-443B-8C92-C388F6A85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7D01-7D4C-48D0-AAD7-945FC8F41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B9C1-85C1-4A40-80CC-3D3CCAF75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5D66-2E32-4E65-A767-8E551FAEC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6156-D464-4B9E-9921-2EF899649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1F20-9633-4201-B4C2-1F7A2CC1B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1526-855A-4464-B5C3-0DEAF325C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A56B-204E-4A8F-AF64-C2D6586B6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7A3E-8B8A-4017-B1F0-6142726D4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0393-3E99-428B-B170-7A8B27BA9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46240"/>
            <a:ext cx="822636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9ED6A-3840-4B84-9AC0-454B09CE6B7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6583320"/>
            <a:ext cx="514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Nos relacionamos como seres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commons.wikimedia.org/wiki/User:Emuzesto" TargetMode="External"/><Relationship Id="rId3" Type="http://schemas.openxmlformats.org/officeDocument/2006/relationships/hyperlink" Target="http://es.wikipedia.org/wiki/Creative_Commons" TargetMode="External"/><Relationship Id="rId4" Type="http://schemas.openxmlformats.org/officeDocument/2006/relationships/hyperlink" Target="http://creativecommons.org/licenses/by-sa/1.0/deed.es" TargetMode="External"/><Relationship Id="rId5" Type="http://schemas.openxmlformats.org/officeDocument/2006/relationships/hyperlink" Target="http://creativecommons.org/licenses/by-sa/2.0/deed.es" TargetMode="External"/><Relationship Id="rId6" Type="http://schemas.openxmlformats.org/officeDocument/2006/relationships/hyperlink" Target="http://creativecommons.org/licenses/by-sa/2.5/deed.es" TargetMode="External"/><Relationship Id="rId7" Type="http://schemas.openxmlformats.org/officeDocument/2006/relationships/hyperlink" Target="http://es.wikipedia.org/wiki/Archivo:Communication_shannon-weaver2.svg" TargetMode="External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954000"/>
            <a:ext cx="8315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  <a:ea typeface="Arial Unicode MS"/>
              </a:rPr>
              <a:t>Comunicación y lenguaje (I):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  <a:ea typeface="Arial Unicode MS"/>
              </a:rPr>
              <a:t>Nos relacionamos como 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  <a:ea typeface="Arial Unicode MS"/>
              </a:rPr>
              <a:t>seres soci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907920"/>
            <a:ext cx="772956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102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4100" spc="-1" strike="noStrike">
                <a:solidFill>
                  <a:srgbClr val="000000"/>
                </a:solidFill>
                <a:latin typeface="Arial"/>
                <a:ea typeface="Arial Unicode MS"/>
              </a:rPr>
              <a:t>Comunicación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9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  <a:ea typeface="Arial Unicode MS"/>
              </a:rPr>
              <a:t>Facultad que permite a la persona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Intercambiar información con sus semeja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Constituir una socie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00040" y="836640"/>
            <a:ext cx="86439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72000"/>
              </a:lnSpc>
              <a:spcBef>
                <a:spcPts val="77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Arial"/>
                <a:ea typeface="Arial Unicode MS"/>
              </a:rPr>
              <a:t>Lenguaje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- Forma de comunicación de los seres human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- Tipos de lenguaj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) No verbal: gestos, expresiones, posturas, imágenes, olore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) Verbal: las palab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- El lenguaje tiene su realización concreta en las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lenguas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o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idiomas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Cada individuo emplea la lengua de una forma peculiar; es el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habl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680" y="3357720"/>
            <a:ext cx="393048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8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Arial"/>
                <a:ea typeface="Arial Unicode MS"/>
              </a:rPr>
              <a:t>Elementos de la comunicació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8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5280" y="1700280"/>
          <a:ext cx="8429760" cy="437364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437364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:</a:t>
                      </a: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3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Einar Faanes</a:t>
                      </a: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3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/>
                        </a:rPr>
                        <a:t>licencia Creative Commons</a:t>
                      </a:r>
                      <a:r>
                        <a:rPr b="0" i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versiones </a:t>
                      </a:r>
                      <a:r>
                        <a:rPr b="0" lang="es-ES" sz="13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/>
                        </a:rPr>
                        <a:t>1.0</a:t>
                      </a:r>
                      <a:r>
                        <a:rPr b="0" i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s-ES" sz="13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/>
                        </a:rPr>
                        <a:t>2.0</a:t>
                      </a:r>
                      <a:r>
                        <a:rPr b="0" i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 </a:t>
                      </a:r>
                      <a:r>
                        <a:rPr b="0" lang="es-ES" sz="13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/>
                        </a:rPr>
                        <a:t>2.5</a:t>
                      </a: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3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/>
                        </a:rPr>
                        <a:t>wikiped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so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 la derecha) emite u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e llega hasta el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to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 la izquierda), a través de u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el codificador) en una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ción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lajada entre ambos. Sin embargo, dicho mensaje no llega de forma clara porque hay un elemento perturbador: el rayo, que actúa sobre el canal y origina interferencias; es decir, ruidos. Evidentemente, como puedes ver en la imagen, el receptor, a su vez, puede responder, de forma que se convierte en emiso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87280" y="981000"/>
            <a:ext cx="72010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rturbaciones en la comun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1773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n contando con todos los elementos de la comunicación, puede ocurrir que esta sea impedida o al menos dificultada por una serie de elementos externos que se conocen com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turb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uid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500280"/>
            <a:ext cx="71294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intentar contrarrestar sus efectos, empleamos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dunda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levamos la voz, repetimos la frase, subrayamos el texto, empleamos mayúsculas, etcéte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1268280"/>
            <a:ext cx="814392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Nos comunicamos con distintas intencion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Son las </a:t>
            </a:r>
            <a:r>
              <a:rPr b="1" lang="es-E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funciones</a:t>
            </a:r>
            <a:r>
              <a:rPr b="0" lang="es-E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 del lenguaje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Representativa o refer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Expres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Conativa o apelat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Metalingüíst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Fática o de conta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Poét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19280" y="1341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Los sign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2421000"/>
            <a:ext cx="67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gno consta de dos part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gnifica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decir, aquello que percibimos por los sentidos. Puedes ver la luz del semáforo, del mismo modo que la cruz de la farmacia o las letr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gnific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o lo que es lo mismo, la idea que queremos representar por medio del sig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040" y="708120"/>
            <a:ext cx="831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  <a:ea typeface="Arial Unicode MS"/>
              </a:rPr>
              <a:t>Tipos de sign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entro de los sign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 lingüíst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vamos a diferenciar tres clas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ndici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 Son signos naturales en los que se establece una relación natural entre el significante y el significado: el humo es un indicio de que hay fue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con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 Han sido creados artificialmente por el ser humano. Se caracterizan porque existe un parecido físico entre el significante y el signifi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ímbol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 También han sido creados por el hombre. En ellos, no hay relación ni parecido entre el significante y el significado, como ocurre en la mayor parte de las señales de circul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19040" y="460440"/>
            <a:ext cx="83152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  <a:ea typeface="Arial Unicode MS"/>
              </a:rPr>
              <a:t>Características del signo lingüís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276640"/>
            <a:ext cx="82296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igno lingüístic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rbitrar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Convenci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Mu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Line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rticulad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>USUARIO</cp:lastModifiedBy>
  <dcterms:modified xsi:type="dcterms:W3CDTF">2010-09-22T10:53:27Z</dcterms:modified>
  <cp:revision>12</cp:revision>
  <dc:subject/>
  <dc:title>Tema 1. Nos relacionamos como seres sociales</dc:title>
</cp:coreProperties>
</file>