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8BA9-D415-4F39-9A03-7DB715FC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D5F-AE3F-461E-8583-51E67A41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7E8F-74B1-42B7-9B31-DDFE83C0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47C0-A8D5-4E6E-9417-CC8F2673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0A6-90EE-4CCD-AFA4-486403C8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14CF-C460-48F1-B77A-FDBD5C74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784A-F4AB-4019-B165-52439829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C746-547E-48F5-9391-06DFA7E4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B0B5-0B14-42F5-AE4C-4613854C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BD67-382D-4B7A-9ECF-1807F7ED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70BE-66A9-4F01-A635-50DF8263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60ED-6FCF-4118-BF69-A528F861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D120-7836-4855-B596-F67074B3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9B32-ABA9-49E3-B1E0-15362034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6873-86F0-4BBF-82DE-CE9318C7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1A78-F87F-4C1D-9896-D79DD85D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D8DE-6CB2-459A-9114-DB6C1737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C332-D6B8-4EEA-96F8-9A91CB0F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3FD-38BE-4FA8-84D2-7485CD4B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C1F-E306-4894-BD11-4014B381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DEB4-B674-4E14-A073-CCE228F4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CAB1-52F5-48E4-8667-CE503EAC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D880-07CA-4615-BAD6-B88F7403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1DFF-55BD-439D-9749-7EFFEB2F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652E-BA11-4192-AB96-FFB6200562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DAA8-8CBC-4A6E-B2DE-ED7D7352642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lblogdelingles.blogspot.com.es/2005/12/list-of-irregular-verbs-lista-de_19.html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barra presentaciones"/>
          <p:cNvPicPr/>
          <p:nvPr/>
        </p:nvPicPr>
        <p:blipFill>
          <a:blip r:embed="rId1"/>
          <a:stretch/>
        </p:blipFill>
        <p:spPr>
          <a:xfrm>
            <a:off x="0" y="0"/>
            <a:ext cx="39996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botón presentaciones"/>
          <p:cNvPicPr/>
          <p:nvPr/>
        </p:nvPicPr>
        <p:blipFill>
          <a:blip r:embed="rId2"/>
          <a:stretch/>
        </p:blipFill>
        <p:spPr>
          <a:xfrm>
            <a:off x="468360" y="0"/>
            <a:ext cx="790560" cy="719280"/>
          </a:xfrm>
          <a:prstGeom prst="rect">
            <a:avLst/>
          </a:prstGeom>
          <a:ln w="0">
            <a:noFill/>
          </a:ln>
        </p:spPr>
      </p:pic>
      <p:pic>
        <p:nvPicPr>
          <p:cNvPr id="122" name="I 1" descr="juntaandalucia_gr.png"/>
          <p:cNvPicPr/>
          <p:nvPr/>
        </p:nvPicPr>
        <p:blipFill>
          <a:blip r:embed="rId3"/>
          <a:stretch/>
        </p:blipFill>
        <p:spPr>
          <a:xfrm>
            <a:off x="8101080" y="93600"/>
            <a:ext cx="900000" cy="598680"/>
          </a:xfrm>
          <a:prstGeom prst="rect">
            <a:avLst/>
          </a:prstGeom>
          <a:ln w="0">
            <a:noFill/>
          </a:ln>
        </p:spPr>
      </p:pic>
      <p:sp>
        <p:nvSpPr>
          <p:cNvPr id="123" name="Line 7"/>
          <p:cNvSpPr/>
          <p:nvPr/>
        </p:nvSpPr>
        <p:spPr>
          <a:xfrm>
            <a:off x="573120" y="765000"/>
            <a:ext cx="831996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ribete presentaciones"/>
          <p:cNvPicPr/>
          <p:nvPr/>
        </p:nvPicPr>
        <p:blipFill>
          <a:blip r:embed="rId4"/>
          <a:stretch/>
        </p:blipFill>
        <p:spPr>
          <a:xfrm>
            <a:off x="6372360" y="6237360"/>
            <a:ext cx="2743200" cy="199800"/>
          </a:xfrm>
          <a:prstGeom prst="rect">
            <a:avLst/>
          </a:prstGeom>
          <a:ln w="0">
            <a:noFill/>
          </a:ln>
        </p:spPr>
      </p:pic>
      <p:sp>
        <p:nvSpPr>
          <p:cNvPr id="125" name="CuadroTexto 8"/>
          <p:cNvSpPr/>
          <p:nvPr/>
        </p:nvSpPr>
        <p:spPr>
          <a:xfrm>
            <a:off x="1584360" y="2347920"/>
            <a:ext cx="5975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1e4649"/>
                </a:solidFill>
                <a:latin typeface="Arial"/>
              </a:rPr>
              <a:t>Resumen del tema 7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w and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HE TIME: LA H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3 CuadroTexto"/>
          <p:cNvSpPr/>
          <p:nvPr/>
        </p:nvSpPr>
        <p:spPr>
          <a:xfrm>
            <a:off x="755640" y="1628640"/>
            <a:ext cx="770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Castellano, decimos la hora con la expresió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Son las…”,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guido de la </a:t>
            </a:r>
            <a:r>
              <a:rPr b="0" lang="es-ES" sz="2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ho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los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inut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" sz="2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tr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iez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Inglés, usamos la expresió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It’s…”,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guido de los minutos y la ho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’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e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ast </a:t>
            </a:r>
            <a:r>
              <a:rPr b="0" lang="es-ES" sz="2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thre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HE TIME: LA H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9720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00000" y="1628640"/>
          <a:ext cx="7272360" cy="4633920"/>
        </p:xfrm>
        <a:graphic>
          <a:graphicData uri="http://schemas.openxmlformats.org/drawingml/2006/table">
            <a:tbl>
              <a:tblPr/>
              <a:tblGrid>
                <a:gridCol w="1817640"/>
                <a:gridCol w="1818000"/>
                <a:gridCol w="1819080"/>
                <a:gridCol w="1817640"/>
              </a:tblGrid>
              <a:tr h="2438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half-past sev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ten past elev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a quarter to n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one o’c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five to f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t a quarter past f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twenty past n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twenty-five to th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082520" y="1751040"/>
            <a:ext cx="1422720" cy="131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2908440" y="1751040"/>
            <a:ext cx="1417320" cy="1314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3"/>
          <a:stretch/>
        </p:blipFill>
        <p:spPr>
          <a:xfrm>
            <a:off x="4745160" y="1751040"/>
            <a:ext cx="1379520" cy="1314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4"/>
          <a:stretch/>
        </p:blipFill>
        <p:spPr>
          <a:xfrm>
            <a:off x="6543720" y="1730520"/>
            <a:ext cx="1433520" cy="1334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5"/>
          <a:stretch/>
        </p:blipFill>
        <p:spPr>
          <a:xfrm>
            <a:off x="1133640" y="4184640"/>
            <a:ext cx="1465200" cy="1355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6"/>
          <a:stretch/>
        </p:blipFill>
        <p:spPr>
          <a:xfrm>
            <a:off x="2894040" y="4184640"/>
            <a:ext cx="1428840" cy="1355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7"/>
          <a:stretch/>
        </p:blipFill>
        <p:spPr>
          <a:xfrm>
            <a:off x="4745160" y="4181400"/>
            <a:ext cx="1411200" cy="1351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8"/>
          <a:stretch/>
        </p:blipFill>
        <p:spPr>
          <a:xfrm>
            <a:off x="6543720" y="4184640"/>
            <a:ext cx="140184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HE TIME: LA H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76360" y="1700280"/>
          <a:ext cx="6143760" cy="3976560"/>
        </p:xfrm>
        <a:graphic>
          <a:graphicData uri="http://schemas.openxmlformats.org/drawingml/2006/table">
            <a:tbl>
              <a:tblPr/>
              <a:tblGrid>
                <a:gridCol w="3071880"/>
                <a:gridCol w="3071880"/>
              </a:tblGrid>
              <a:tr h="795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5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’cl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pu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quarter p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cuar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quarter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s cuar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f-p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9040" y="980640"/>
            <a:ext cx="83152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E TIME: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TS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481040" y="2151000"/>
          <a:ext cx="6191280" cy="4032360"/>
        </p:xfrm>
        <a:graphic>
          <a:graphicData uri="http://schemas.openxmlformats.org/drawingml/2006/table">
            <a:tbl>
              <a:tblPr/>
              <a:tblGrid>
                <a:gridCol w="3095640"/>
                <a:gridCol w="309564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mo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la mañ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afterno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la tar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ev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la no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n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la noche (madrugad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noon/At mid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mediod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midn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mediano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5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MPLE PAST: FORM</a:t>
            </a:r>
            <a:br>
              <a:rPr sz="28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SITIVE SENTENCES. –ED SUF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asado simple en oraciones afirmativas en inglés, se forma con la desinenci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–e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salvo con los verbos irregulares, que tienen formas propias y se aprenden de memo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26920" y="2708280"/>
          <a:ext cx="7490160" cy="3600360"/>
        </p:xfrm>
        <a:graphic>
          <a:graphicData uri="http://schemas.openxmlformats.org/drawingml/2006/table">
            <a:tbl>
              <a:tblPr/>
              <a:tblGrid>
                <a:gridCol w="3745080"/>
                <a:gridCol w="374508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regular 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lk</a:t>
                      </a:r>
                      <a:r>
                        <a:rPr b="1" lang="es-E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ed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home yesterda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n</a:t>
                      </a:r>
                      <a:r>
                        <a:rPr b="1" lang="es-E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ed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eter two days ag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ch</a:t>
                      </a:r>
                      <a:r>
                        <a:rPr b="1" lang="es-E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ed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terror movie last week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es-E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run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5km yesterda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es-E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bought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new car last wee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es-E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saw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im at the supermarke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ED SPELLING RULES</a:t>
            </a:r>
            <a:br>
              <a:rPr sz="40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past-simple-3reso-3-728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MPLE PAST: FORM</a:t>
            </a:r>
            <a:br>
              <a:rPr sz="28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EGATIVE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21844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asado simple en oraciones afirmativas en inglés, se forma con la forma base del verbo (bare infinitive) precedida del auxiliar DID más la partícula negativa NOT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D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26920" y="2708280"/>
          <a:ext cx="7490160" cy="3600360"/>
        </p:xfrm>
        <a:graphic>
          <a:graphicData uri="http://schemas.openxmlformats.org/drawingml/2006/table">
            <a:tbl>
              <a:tblPr/>
              <a:tblGrid>
                <a:gridCol w="3745080"/>
                <a:gridCol w="374508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regular 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n’t walk</a:t>
                      </a:r>
                      <a:r>
                        <a:rPr b="1" lang="es-E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home yesterda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n’t phon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eter two days ag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n’t  watch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terror movie last week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n’t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5km yesterda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n’t buy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new car last wee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n’t se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im at the supermarke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58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MPLE PAST: FORM</a:t>
            </a:r>
            <a:br>
              <a:rPr sz="28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9036000" cy="14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pasado simple en oraciones interrogativas en inglés, se forma con la siguiente estructu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ES/NO QUESTIONS: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D+SUBJECT+VERB(base form)+IO+DO+CC+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WH-QUESTIONS: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WH-PRONOUN+DID+SUBJECT+VERB(base form)+IO+DO+CC+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26920" y="3213000"/>
          <a:ext cx="7490160" cy="3025800"/>
        </p:xfrm>
        <a:graphic>
          <a:graphicData uri="http://schemas.openxmlformats.org/drawingml/2006/table">
            <a:tbl>
              <a:tblPr/>
              <a:tblGrid>
                <a:gridCol w="3745080"/>
                <a:gridCol w="37450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regular 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Did you walk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home yesterda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Did you phon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eter two weeks ago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hat did you watch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esterda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Did you run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5km yesterda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Did you buy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new car last week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Where did you se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i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RREGULAR VERBS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Resultado de imagen de lis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0280" y="2357280"/>
            <a:ext cx="2143440" cy="21434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2195640" y="472428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EN LA IMAGEN PARA VER LA LISTA DE VERBOS IRREG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8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 SIMPLE: FOR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SITIVE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4360" y="1484280"/>
          <a:ext cx="2616120" cy="5132520"/>
        </p:xfrm>
        <a:graphic>
          <a:graphicData uri="http://schemas.openxmlformats.org/drawingml/2006/table">
            <a:tbl>
              <a:tblPr/>
              <a:tblGrid>
                <a:gridCol w="2616120"/>
              </a:tblGrid>
              <a:tr h="258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419640" y="1484280"/>
          <a:ext cx="2016000" cy="511344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25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580000" y="1484280"/>
          <a:ext cx="2879640" cy="5113440"/>
        </p:xfrm>
        <a:graphic>
          <a:graphicData uri="http://schemas.openxmlformats.org/drawingml/2006/table">
            <a:tbl>
              <a:tblPr/>
              <a:tblGrid>
                <a:gridCol w="2879640"/>
              </a:tblGrid>
              <a:tr h="51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nis on Sun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6280" y="88272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IN USES OF THE PAST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84280" y="2075040"/>
          <a:ext cx="8432640" cy="3354120"/>
        </p:xfrm>
        <a:graphic>
          <a:graphicData uri="http://schemas.openxmlformats.org/drawingml/2006/table">
            <a:tbl>
              <a:tblPr/>
              <a:tblGrid>
                <a:gridCol w="4216320"/>
                <a:gridCol w="4216320"/>
              </a:tblGrid>
              <a:tr h="168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iones completadas en un momento concreto del pas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saw a movie yesterda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idn't see a play yesterda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e de acciones completadas consecutivame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finished work, walked to the beach, and found a nice place to swi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9040" y="907560"/>
            <a:ext cx="83152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ME EXPRESSIONS</a:t>
            </a: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PRESIONES TEMPO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7960" y="1981080"/>
            <a:ext cx="5257800" cy="2600280"/>
          </a:xfrm>
          <a:prstGeom prst="rect">
            <a:avLst/>
          </a:prstGeom>
          <a:ln w="0">
            <a:noFill/>
          </a:ln>
        </p:spPr>
      </p:pic>
      <p:sp>
        <p:nvSpPr>
          <p:cNvPr id="180" name="4 CuadroTexto"/>
          <p:cNvSpPr/>
          <p:nvPr/>
        </p:nvSpPr>
        <p:spPr>
          <a:xfrm>
            <a:off x="1515960" y="4581360"/>
            <a:ext cx="61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t week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semana pas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t month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mes pas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days ago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ce 2 dí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ee years ago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ce tres 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esterday morning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er por la mañ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resent-tense-verbs-in-third-person-1-638"/>
          <p:cNvPicPr/>
          <p:nvPr/>
        </p:nvPicPr>
        <p:blipFill>
          <a:blip r:embed="rId1"/>
          <a:stretch/>
        </p:blipFill>
        <p:spPr>
          <a:xfrm>
            <a:off x="1476360" y="1557360"/>
            <a:ext cx="6242040" cy="4691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27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T SIMPLE: FORM</a:t>
            </a:r>
            <a:br>
              <a:rPr sz="24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RD PERSON SING. SP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SENT SIMPLE: FORM</a:t>
            </a:r>
            <a:br>
              <a:rPr sz="28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GATIVE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306440"/>
                <a:gridCol w="1656000"/>
                <a:gridCol w="1800000"/>
                <a:gridCol w="3467160"/>
              </a:tblGrid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nis on Sun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SENT SIMPLE: FORM</a:t>
            </a:r>
            <a:br>
              <a:rPr sz="28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ERROGATIVE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378080"/>
                <a:gridCol w="1512720"/>
                <a:gridCol w="1800360"/>
                <a:gridCol w="3538440"/>
              </a:tblGrid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nis on Sunday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SENT SIMPLE: FORM</a:t>
            </a:r>
            <a:br>
              <a:rPr sz="2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I d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you d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es, he do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we d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you d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they d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I don’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you don’t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, he doesn’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we don’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you don’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they don’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64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H-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71640" y="1484280"/>
          <a:ext cx="7559640" cy="5029200"/>
        </p:xfrm>
        <a:graphic>
          <a:graphicData uri="http://schemas.openxmlformats.org/drawingml/2006/table">
            <a:tbl>
              <a:tblPr/>
              <a:tblGrid>
                <a:gridCol w="1512720"/>
                <a:gridCol w="1511280"/>
                <a:gridCol w="1511280"/>
                <a:gridCol w="1513080"/>
                <a:gridCol w="1511280"/>
              </a:tblGrid>
              <a:tr h="44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dinne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up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the gym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tudy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of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p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 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e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SENT SIMPLE: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4984920"/>
        </p:xfrm>
        <a:graphic>
          <a:graphicData uri="http://schemas.openxmlformats.org/drawingml/2006/table">
            <a:tbl>
              <a:tblPr/>
              <a:tblGrid>
                <a:gridCol w="3251160"/>
                <a:gridCol w="4978440"/>
              </a:tblGrid>
              <a:tr h="1697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s y ruti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ke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p at 7:00am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never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e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the gym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usually go to school by bus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 gener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s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lk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rds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 like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lk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igs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lk?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0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os program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rain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ve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night at 6 PM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us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s not arrive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11 AM, it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ive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11 PM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e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plane?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4360" y="88596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ME EXPRESSIONS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verbs of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00040" y="1878120"/>
          <a:ext cx="8386920" cy="4049640"/>
        </p:xfrm>
        <a:graphic>
          <a:graphicData uri="http://schemas.openxmlformats.org/drawingml/2006/table">
            <a:tbl>
              <a:tblPr/>
              <a:tblGrid>
                <a:gridCol w="2208240"/>
                <a:gridCol w="2373480"/>
                <a:gridCol w="3805200"/>
              </a:tblGrid>
              <a:tr h="495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11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n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never take the bus to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e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sometimes go swi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menu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often goes out on Fri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usually watch TV in the ev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mp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always play tennis on Sunday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8T15:34:21Z</dcterms:created>
  <dc:creator>Migue</dc:creator>
  <dc:description/>
  <dc:language>en-US</dc:language>
  <cp:lastModifiedBy>Usuario</cp:lastModifiedBy>
  <dcterms:modified xsi:type="dcterms:W3CDTF">2016-08-23T09:24:09Z</dcterms:modified>
  <cp:revision>7</cp:revision>
  <dc:subject/>
  <dc:title>Diapositiva 1</dc:title>
</cp:coreProperties>
</file>