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3534-91CF-4525-81CF-E0D68B199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E1B1-228D-4AC7-A746-115F054D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AFD6-59C7-4B2A-A79C-98DD7A7A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D882-8416-4E7B-B66A-883D404C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E3DA-B871-4137-963E-BB8DD8E2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E10C-9FC8-4885-92FC-1069EC76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620B-6AA6-487B-9BD3-B60A262C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AB56-BFB7-4CE5-9EEA-F7BEFAB1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5726-839B-44C1-9F5B-29A7B3F9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8B38-7FC8-422E-875D-62E96A5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B23F-911A-48A9-9D41-0CCB0FC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8DAD-229A-405A-98DB-1569C2F46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8CB55-77A4-4015-9DB4-CE28EC72E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BD965-2D2C-4737-A3B7-238F57B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2420-EDF8-4AD8-AC26-5C1FF422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0383-3B50-41F4-8510-EC51327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26441-E37C-43E2-B27E-1046FF3F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F8450-DEB5-40A1-A49E-73327DEA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07F5E-43D1-43AB-960C-63921D95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8418A-31F8-4849-94D7-53B600E3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7E64C-0A52-46D7-98E0-25BEC9B1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DA641-E1F1-47D2-9141-90848B9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B4396-177F-4DE4-AC82-A6B34C7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44420-DD07-45CD-BB9F-B58ED8F36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4081D-4C28-4341-A6CE-FEB7C50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28286-0760-47FA-ABA7-BFAEA648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5C929-48D3-44C5-8E73-25EA283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61440-CD4F-4501-BAEB-C2A9824D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F9463-2A2F-49B3-B29C-56BF19BB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28944-E4FD-4F54-BADC-6B1B819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F295F-7E94-421F-982A-18C656B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430CF-D129-43B4-B504-2B7D46E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79482-429A-47C3-8936-0DD05D6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7C797-CBB9-43C3-929A-222BC12E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7A875-60B9-4EA1-9DC2-B3F9A063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62BAD-7BCF-47A3-8314-C97899AB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0" y="6524640"/>
            <a:ext cx="45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Arial"/>
              </a:rPr>
              <a:t>Principios de máquinas. Concep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54E-B07D-41F7-B48C-1E81C94670A1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23B-E6A7-4A26-BF8D-81C2F2628BC6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572000" y="6524640"/>
            <a:ext cx="45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Arial"/>
              </a:rPr>
              <a:t>Principios de máquinas. Concep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45" name="Line 8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D32-6678-4F31-883D-8FB366D2DCEA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9"/>
          <p:cNvSpPr/>
          <p:nvPr/>
        </p:nvSpPr>
        <p:spPr>
          <a:xfrm>
            <a:off x="279360" y="87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ncipios de máquinas: Conceptos bás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395280" y="1406520"/>
            <a:ext cx="3816360" cy="210168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omento de una fuer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.1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Trabajo de ro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.2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Trabajo de expansión-compre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.3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Trabajo eléctr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ot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4.1. Potencia de ro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4.2. Potencia hidráu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4.3. Potencia eléct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ergía. Tipos de energ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ndimiento mecá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6"/>
          <p:cNvSpPr/>
          <p:nvPr/>
        </p:nvSpPr>
        <p:spPr>
          <a:xfrm>
            <a:off x="395280" y="4508640"/>
            <a:ext cx="381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finimos una máquin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mo una combinación de mecanismos, adecuadamente organizados, alimentados con un cierto tipo de energía, que es transformada en otra, produciendo un efecto dese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08"/>
          <p:cNvGrpSpPr/>
          <p:nvPr/>
        </p:nvGrpSpPr>
        <p:grpSpPr>
          <a:xfrm>
            <a:off x="5508720" y="1413000"/>
            <a:ext cx="3384360" cy="5131080"/>
            <a:chOff x="5508720" y="1413000"/>
            <a:chExt cx="3384360" cy="5131080"/>
          </a:xfrm>
        </p:grpSpPr>
        <p:pic>
          <p:nvPicPr>
            <p:cNvPr id="192" name="Picture 105" descr="DSC_0109"/>
            <p:cNvPicPr/>
            <p:nvPr/>
          </p:nvPicPr>
          <p:blipFill>
            <a:blip r:embed="rId1"/>
            <a:stretch/>
          </p:blipFill>
          <p:spPr>
            <a:xfrm>
              <a:off x="5597640" y="1413000"/>
              <a:ext cx="3206520" cy="48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07"/>
            <p:cNvSpPr/>
            <p:nvPr/>
          </p:nvSpPr>
          <p:spPr>
            <a:xfrm>
              <a:off x="5508720" y="6237000"/>
              <a:ext cx="33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Imegen 01. Elaboración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9"/>
          <p:cNvSpPr/>
          <p:nvPr/>
        </p:nvSpPr>
        <p:spPr>
          <a:xfrm>
            <a:off x="250920" y="126828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mento de una fuer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6"/>
              <p:cNvSpPr txBox="1"/>
              <p:nvPr/>
            </p:nvSpPr>
            <p:spPr>
              <a:xfrm>
                <a:off x="1835280" y="2657520"/>
                <a:ext cx="1512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96" name="Group 82"/>
          <p:cNvGrpSpPr/>
          <p:nvPr/>
        </p:nvGrpSpPr>
        <p:grpSpPr>
          <a:xfrm>
            <a:off x="3708360" y="2852640"/>
            <a:ext cx="5111640" cy="2984760"/>
            <a:chOff x="3708360" y="2852640"/>
            <a:chExt cx="5111640" cy="2984760"/>
          </a:xfrm>
        </p:grpSpPr>
        <p:pic>
          <p:nvPicPr>
            <p:cNvPr id="197" name="Picture 79" descr="MomF"/>
            <p:cNvPicPr/>
            <p:nvPr/>
          </p:nvPicPr>
          <p:blipFill>
            <a:blip r:embed="rId1"/>
            <a:stretch/>
          </p:blipFill>
          <p:spPr>
            <a:xfrm>
              <a:off x="3708360" y="2852640"/>
              <a:ext cx="5111640" cy="29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80"/>
            <p:cNvSpPr/>
            <p:nvPr/>
          </p:nvSpPr>
          <p:spPr>
            <a:xfrm>
              <a:off x="4211640" y="522936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Imegen 02. Elaboración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81"/>
          <p:cNvSpPr/>
          <p:nvPr/>
        </p:nvSpPr>
        <p:spPr>
          <a:xfrm>
            <a:off x="250920" y="1628640"/>
            <a:ext cx="46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 denomina momento de una fuerza F respecto de un punto O, al producto vectorial del vector posición de la fuerza b (llamado brazo) por el vector fuerza F, es deci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50920" y="126828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mento de una fuer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1628640"/>
            <a:ext cx="468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 define el trabajo que se realiza sobre un cuerpo como el producto escalar de la fuerza que se aplica sobre el cuerpo, por el desplazamiento produc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1692360" y="2384280"/>
                <a:ext cx="1800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·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·s</m:t>
                    </m:r>
                    <m:r>
                      <m:rPr>
                        <m:lit/>
                        <m:nor/>
                      </m:rPr>
                      <m:t xml:space="preserve">·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Text Box 8"/>
          <p:cNvSpPr/>
          <p:nvPr/>
        </p:nvSpPr>
        <p:spPr>
          <a:xfrm>
            <a:off x="684360" y="2924280"/>
            <a:ext cx="46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ipos de trabajo que estudiaremos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rabajo de ro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rabajo de expansión-com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rabajo eléc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4000" y="400536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mento de una fuer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39640" y="4365720"/>
            <a:ext cx="468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a potencia es el trabajo que se ha realizado durante la unidad de tiempo, es decir, la energía desarrollada por unidad de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292720" y="4437000"/>
            <a:ext cx="288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gún la forma o medio en el que se transfiere la potencia, estudiar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otencia de ro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otencia hidráu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otencia eléctr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3"/>
          <p:cNvGrpSpPr/>
          <p:nvPr/>
        </p:nvGrpSpPr>
        <p:grpSpPr>
          <a:xfrm>
            <a:off x="5651640" y="1700280"/>
            <a:ext cx="2827080" cy="1531080"/>
            <a:chOff x="5651640" y="1700280"/>
            <a:chExt cx="2827080" cy="1531080"/>
          </a:xfrm>
        </p:grpSpPr>
        <p:pic>
          <p:nvPicPr>
            <p:cNvPr id="208" name="Picture 6" descr="Trabajo"/>
            <p:cNvPicPr/>
            <p:nvPr/>
          </p:nvPicPr>
          <p:blipFill>
            <a:blip r:embed="rId1"/>
            <a:stretch/>
          </p:blipFill>
          <p:spPr>
            <a:xfrm>
              <a:off x="5651640" y="1700280"/>
              <a:ext cx="28270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2"/>
            <p:cNvSpPr/>
            <p:nvPr/>
          </p:nvSpPr>
          <p:spPr>
            <a:xfrm>
              <a:off x="5651640" y="2924280"/>
              <a:ext cx="28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Imegen 03. Elaboración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0920" y="126828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rgía. Tipos 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84360" y="1700280"/>
            <a:ext cx="763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a energía ni se crea ni se destruye, únicamente se transforma en otro tipo de energí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 los procesos industriales nos interesan algunos tipos de energía por su versatilidad, como por ejemplo la electric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n las transformaciones de energía se pierde una cierta cantidad de energía no útil que hay que minimiz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studiaremos las diferentes formas de energía y sus expresiones matemáticas como son Energía Mecánica, Energía cinética, Energía potencial, Energía potencial elástica, Energía eléctrica, Energía química, Energía térmica, Radiación. Convección, Conducción y Energía nucl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84360" y="3429000"/>
            <a:ext cx="467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95280" y="3860640"/>
            <a:ext cx="50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 mecá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826920" y="4221000"/>
            <a:ext cx="712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 medir la eficiencia de los procesos de transformación energética, se define el rendimiento (η) como el cociente entre la energía útil (Eu) y la energía total (Et) suministrada por 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3780000" y="4869000"/>
                <a:ext cx="936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 </cp:lastModifiedBy>
  <dcterms:modified xsi:type="dcterms:W3CDTF">2011-03-14T12:17:19Z</dcterms:modified>
  <cp:revision>162</cp:revision>
  <dc:subject/>
  <dc:title>Diapositiva 1</dc:title>
</cp:coreProperties>
</file>