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21200" y="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991800" y="768240"/>
            <a:ext cx="511164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020840" y="97214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  <a:defRPr b="0" lang="en-GB" sz="13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BEE93DB0-324B-401C-A4C6-57056C9F719A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DEAC831D-04B7-4933-A5A9-1D2BC8A1DCD8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5BC82386-C39B-4990-B2B1-707DFDC2CAE6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12027C8C-5C6C-431B-90D2-D1DEEB0CA377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2F5E1A21-0D1C-4A84-B244-7E3E912AF807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E4CC8CC7-313A-42B0-9481-37C9A16ABA05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D4911B36-0DB8-4D78-890C-B73AA6A0D55B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43E53DF0-7EEF-47A2-BD8D-04417AEB6180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663B5494-F0DB-4E6E-ACB8-6FD8A27D5F6B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FD830289-BDD1-40BB-94BA-CD974ABACE0D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92048F6C-0756-4E15-A4AA-0F872C94FC56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3840" cy="33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384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33342" t="16329" r="27525" b="-7422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6640" y="6583320"/>
            <a:ext cx="479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rebuchet MS"/>
                <a:ea typeface="MS Gothic"/>
              </a:rPr>
              <a:t>Scotland on the horizon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71640" y="2421000"/>
            <a:ext cx="2160720" cy="4032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3152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Paco's dream comes true: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cotland on the horizon …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00040" y="85716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s-ES" sz="2800" spc="-1" strike="noStrike">
                <a:solidFill>
                  <a:srgbClr val="336699"/>
                </a:solidFill>
                <a:latin typeface="Constantia"/>
              </a:rPr>
              <a:t>Prepo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71640" y="2060640"/>
            <a:ext cx="7200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 algn="ctr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preposition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links nouns, pronouns and phrases to other words in a sentence. The word or phrase that the preposition introduces is called the object of the preposi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 preposition usually indicates the temporal, spatial or logical relationship of its object to the rest of the sentenc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My keys are </a:t>
            </a: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on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 the table.</a:t>
            </a:r>
            <a:r>
              <a:rPr b="0" lang="es-E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00040" y="857160"/>
            <a:ext cx="82296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s-ES" sz="2800" spc="-1" strike="noStrike">
                <a:solidFill>
                  <a:srgbClr val="336699"/>
                </a:solidFill>
                <a:latin typeface="Constantia"/>
              </a:rPr>
              <a:t>Prepositional  phrases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1916280"/>
            <a:ext cx="770400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prepositional phrase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is made up of the preposition, its object and any associated adjectives or adverbs. A prepositional phrase can function as a noun, an adjective, or an adverb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According to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 my teacher, Maths is not a difficult subject.</a:t>
            </a:r>
            <a:r>
              <a:rPr b="0" lang="es-E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My little sister works hard </a:t>
            </a: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at school.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0040" y="857160"/>
            <a:ext cx="82296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s-ES" sz="2800" spc="-1" strike="noStrike">
                <a:solidFill>
                  <a:srgbClr val="336699"/>
                </a:solidFill>
                <a:latin typeface="Constantia"/>
              </a:rPr>
              <a:t>Prepositional  phrases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916280"/>
            <a:ext cx="792000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hrases are groups of words that function together. Prepositional phrases function like adjectives or adverbs. They describe nouns or verb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 prepositional phrase starts with a preposition. It ends with a noun or a noun substitute. It may contain adjectives describing the noun at the end of the phrase. The noun at the end of the phrase is called the object of the prepositio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After lunch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 my family sits </a:t>
            </a: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in the living room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 to relax </a:t>
            </a: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for a while.</a:t>
            </a:r>
            <a:r>
              <a:rPr b="0" lang="es-E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765000"/>
            <a:ext cx="82296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s-ES" sz="2800" spc="-1" strike="noStrike">
                <a:solidFill>
                  <a:srgbClr val="336699"/>
                </a:solidFill>
                <a:latin typeface="Constantia"/>
              </a:rPr>
              <a:t>Prepositional  phrases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484280"/>
            <a:ext cx="8496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Here you have other examples of common prepositional phra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ff0000"/>
              </a:buClr>
              <a:buFont typeface="Constantia"/>
              <a:buAutoNum type="arabicParenR"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I prefer tea </a:t>
            </a: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instead of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 vodk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2) </a:t>
            </a: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In case of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 bad weather, we will take some umbrell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3)</a:t>
            </a: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 On behalf of 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my father, I would like to thank yo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4) We finally got our destiny </a:t>
            </a: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by means of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 a GPS in the c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5) </a:t>
            </a: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Apart from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 my family, nobody wants to work on this proj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qui</dc:creator>
  <dc:description/>
  <dc:language>en-US</dc:language>
  <cp:lastModifiedBy/>
  <dcterms:modified xsi:type="dcterms:W3CDTF">2021-04-15T09:34:21Z</dcterms:modified>
  <cp:revision>17</cp:revision>
  <dc:subject/>
  <dc:title>Estudiamos las palabras invariables</dc:title>
</cp:coreProperties>
</file>