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A0EED1D1-C4CB-43D8-8808-B6388E7CDA2E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BC1FB585-68F5-4DE6-85D0-9EF3807DBC2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B1DEB991-D39F-40E2-8E0C-638E287C059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A38CFF0F-B0E7-4373-BBD5-3E9C0B60693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625C8B25-CFE0-42B0-A3A6-B32392F7241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739190EF-4D97-4A4B-8BCD-061BBB6A606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C965888F-4ABB-4357-AF1A-7062894A3CF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C3111AF8-EE8D-43FA-AF90-1270ADEBF40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CF19426F-5780-4359-940F-08C7326B0E7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7A976188-2C5B-462A-889F-763557E1ACE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70F6B5DD-C887-4751-8018-B3D4EF5EBD4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38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Scotland on the horizon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2160720" cy="403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3152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aco's dream comes true: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cotland on the horizon …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060640"/>
            <a:ext cx="720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epositio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links nouns, pronouns and phrases to other words in a sentence. The word or phrase that the preposition introduces is called the object of the preposi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preposition usually indicates the temporal, spatial or logical relationship of its object to the rest of the senten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My keys are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on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the table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0040" y="85716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al  phrases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916280"/>
            <a:ext cx="77040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epositional phras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is made up of the preposition, its object and any associated adjectives or adverbs. A prepositional phrase can function as a noun, an adjective, or an adverb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ccording to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my teacher, Maths is not a difficult subject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My little sister works hard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t school.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0040" y="85716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al  phrase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16280"/>
            <a:ext cx="79200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hrases are groups of words that function together. Prepositional phrases function like adjectives or adverbs. They describe nouns or verb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prepositional phrase starts with a preposition. It ends with a noun or a noun substitute. It may contain adjectives describing the noun at the end of the phrase. The noun at the end of the phrase is called the object of the preposi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fter lunch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my family sits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in the living room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to relax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for a while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76500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al  phrase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84280"/>
            <a:ext cx="849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ere you have other examples of common prepositional phra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f0000"/>
              </a:buClr>
              <a:buFont typeface="Constantia"/>
              <a:buAutoNum type="arabicParenR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I prefer tea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instead of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vod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2)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In case of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bad weather, we will take some umbrel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3)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 On behalf of 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my father, I would like to thank yo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4) We finally got our destiny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by means of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a GPS in the c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5)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part from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my family, nobody wants to work on this pro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/>
  <dcterms:modified xsi:type="dcterms:W3CDTF">2021-04-15T09:34:21Z</dcterms:modified>
  <cp:revision>17</cp:revision>
  <dc:subject/>
  <dc:title>Estudiamos las palabras invariables</dc:title>
</cp:coreProperties>
</file>