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58AF6E80-8518-4A3E-A14D-B37B6A5F5D5B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69EFBA4D-58EC-4A9F-B239-1E6ACD49F52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5BB9B9DB-6B0D-4768-BF94-14C622A097E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C6FBE6D3-5818-4381-856C-88AD8F5ED49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D9332B9A-FE81-44D2-B928-A91B495F6E8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6F7414C1-FDBB-4BBB-BAB1-05D166A123F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E057EA9E-985B-4E39-8878-76C94263D8F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5CDC1357-125E-47A6-B4E4-CCF587D80F0C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A6301820-59E5-4A19-9C37-3EEB650FB1C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728FC455-B844-48C8-8FE7-741AB3F2492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71205ED5-D5EA-445B-AFDB-69CDF99C40C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384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38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rebuchet MS"/>
                <a:ea typeface="MS Gothic"/>
              </a:rPr>
              <a:t>Scotland on the horizon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2160720" cy="4032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3152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aco's dream comes true: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cotland on the horizon …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00040" y="85716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Pre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2060640"/>
            <a:ext cx="7200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repositio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links nouns, pronouns and phrases to other words in a sentence. The word or phrase that the preposition introduces is called the object of the preposi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 preposition usually indicates the temporal, spatial or logical relationship of its object to the rest of the sentenc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My keys are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on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the table.</a:t>
            </a: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0040" y="857160"/>
            <a:ext cx="8229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Prepositional  phrases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1916280"/>
            <a:ext cx="77040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repositional phrase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is made up of the preposition, its object and any associated adjectives or adverbs. A prepositional phrase can function as a noun, an adjective, or an adverb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According to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my teacher, Maths is not a difficult subject.</a:t>
            </a: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My little sister works hard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at school.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0040" y="857160"/>
            <a:ext cx="8229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Prepositional  phrases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916280"/>
            <a:ext cx="79200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hrases are groups of words that function together. Prepositional phrases function like adjectives or adverbs. They describe nouns or verb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 prepositional phrase starts with a preposition. It ends with a noun or a noun substitute. It may contain adjectives describing the noun at the end of the phrase. The noun at the end of the phrase is called the object of the preposi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After lunch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my family sits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in the living room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to relax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for a while.</a:t>
            </a: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765000"/>
            <a:ext cx="8229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Prepositional  phrases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484280"/>
            <a:ext cx="8496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ere you have other examples of common prepositional phra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ff0000"/>
              </a:buClr>
              <a:buFont typeface="Constantia"/>
              <a:buAutoNum type="arabicParenR"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I prefer tea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instead of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vodk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2)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In case of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bad weather, we will take some umbrell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3)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 On behalf of 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my father, I would like to thank yo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4) We finally got our destiny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by means of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a GPS in the c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5)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Apart from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my family, nobody wants to work on this pro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/>
  <dcterms:modified xsi:type="dcterms:W3CDTF">2021-04-15T09:34:21Z</dcterms:modified>
  <cp:revision>17</cp:revision>
  <dc:subject/>
  <dc:title>Estudiamos las palabras invariables</dc:title>
</cp:coreProperties>
</file>