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A1D37-9BC9-4FE9-8EFF-366DD69D98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3B350-DDF9-48D4-A9FF-EA501DB7214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82893-B173-404C-A8AC-EA201A7352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FD68F-418A-49E2-A2C1-D64DA8AA4B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C9BEC-AFC8-4BE5-BD9B-4CED6C009F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19040" y="371520"/>
            <a:ext cx="8313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FDDB9-E0B4-430C-883E-9715B5290D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759F8-677D-4937-BB0E-E1BE3DF4E0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A0235-758A-4E21-9165-12C3DD42E3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DE432-FB2B-40A1-BD41-8E8E18AC7D3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8CD56-2D97-4212-9FD7-449FF162C8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56BE9-AC55-46DF-B94F-D5F6BDA4E9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62418-6C10-466F-BFEE-41868E5353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19040" y="371520"/>
            <a:ext cx="8313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33342" t="16329" r="27525" b="-7422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39640" y="6512040"/>
            <a:ext cx="86043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200" spc="-1" strike="noStrike">
                <a:solidFill>
                  <a:srgbClr val="336699"/>
                </a:solidFill>
                <a:latin typeface="Trebuchet MS"/>
                <a:ea typeface="MS Gothic"/>
              </a:rPr>
              <a:t>Humos locales, impactos globales. Contaminación atmosfér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19040" y="596880"/>
            <a:ext cx="8612280" cy="144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19040" y="596880"/>
            <a:ext cx="8612280" cy="144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 flipV="1" rot="420000">
            <a:off x="3164040" y="1107000"/>
            <a:ext cx="5257800" cy="4114800"/>
          </a:xfrm>
          <a:prstGeom prst="pie">
            <a:avLst/>
          </a:pr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 rot="420000">
            <a:off x="800064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-9000" y="5814000"/>
            <a:ext cx="9162720" cy="1041480"/>
          </a:xfrm>
          <a:prstGeom prst="pie">
            <a:avLst/>
          </a:prstGeom>
          <a:gradFill rotWithShape="0">
            <a:gsLst>
              <a:gs pos="0">
                <a:srgbClr val="ffc400"/>
              </a:gs>
              <a:gs pos="100000">
                <a:srgbClr val="bf782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381560" y="6217560"/>
            <a:ext cx="4762440" cy="638280"/>
          </a:xfrm>
          <a:prstGeom prst="pie">
            <a:avLst/>
          </a:prstGeom>
          <a:gradFill rotWithShape="0">
            <a:gsLst>
              <a:gs pos="0">
                <a:srgbClr val="f4921f"/>
              </a:gs>
              <a:gs pos="100000">
                <a:srgbClr val="bf95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46240"/>
            <a:ext cx="8226360" cy="1598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1"/>
          </p:nvPr>
        </p:nvSpPr>
        <p:spPr>
          <a:xfrm>
            <a:off x="8077320" y="6356160"/>
            <a:ext cx="60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404924"/>
                </a:solidFill>
                <a:latin typeface="Constanti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144BC66-BB10-4394-944F-C82D67E17AC4}" type="slidenum">
              <a:rPr b="0" lang="en-GB" sz="1200" spc="-1" strike="noStrike">
                <a:solidFill>
                  <a:srgbClr val="404924"/>
                </a:solidFill>
                <a:latin typeface="Constanti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31920" y="496800"/>
            <a:ext cx="83595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La hidrosfera: Humos locales, impactos globales. Contaminación atmosfé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281240" y="2475000"/>
            <a:ext cx="6581520" cy="313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5040" y="1596960"/>
            <a:ext cx="8778960" cy="53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 contaminación atmosférica: tipos y orig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Gases contaminantes de la atmósfe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ispersión de los contaminan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fectos de la contamina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 nivel local: smo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 nivel regional: lluvia ác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 nivel global: efecto invernadero y cambio climát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 nivel global: destrucción de la capa de ozo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ucha contra los contaminan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2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2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1920" y="743040"/>
            <a:ext cx="83595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Conten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754600" y="3060720"/>
            <a:ext cx="2886120" cy="169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19040" y="606600"/>
            <a:ext cx="87249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Contaminación atmosférica: tipos y or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3600" y="1347840"/>
            <a:ext cx="878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ntaminación atmosférica: es la presencia en el aire de materias o formas de energía que impliquen riesgo, daño o molestia grave para las personas y bienes de cualquier naturale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82880" y="2163600"/>
            <a:ext cx="43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función de su origen puede s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De fuentes natura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De fuentes artifici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9760" y="5934240"/>
            <a:ext cx="875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demás, no debemos olvidar la contaminación lumínica y la acústica, ambas energét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73520" y="3182760"/>
            <a:ext cx="5370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función de sus características, los contaminantes pueden s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731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Aerosol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. Partículas sólidas o líquidas en suspens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7316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Gaseos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. De dos tip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Primari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: se expulsan directamente desde las fuentes emiso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Secundari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: se forman mediante procesos químicos atmosféricos a partir de los anteri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30200" y="2584440"/>
            <a:ext cx="3200400" cy="31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41280" y="1208160"/>
            <a:ext cx="8802720" cy="43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principales s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lorofluorocarbon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onóxido de carbono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ióxido de carbono (CO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onóxido y dióxido de nitrógeno (NO, NO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ióxido de azufre (SO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etano (CH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zono (O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etales pesados: plomo (Pb), cadmio (Cd), mercurio (H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9040" y="606600"/>
            <a:ext cx="87249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Gases contami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1280" y="5653080"/>
            <a:ext cx="880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o olvidemos que los vehículos son una de las principales fuentes de emisiones de gases contaminantes. CO, CO2, Pb y NO son algunos de ell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092560" y="1960560"/>
            <a:ext cx="3714840" cy="276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19040" y="606600"/>
            <a:ext cx="87249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336699"/>
                </a:solidFill>
                <a:latin typeface="Arial"/>
              </a:rPr>
              <a:t>Dispersión de los contamina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5960" y="1327320"/>
            <a:ext cx="79898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tapas del ciclo de emisión-deposició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. Mezcla de contaminant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2. Procesos químicos y fotoquímicos.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ueden generar contaminantes secundario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3. Deposición.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Que puede ser húmeda o sec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3240" y="4260960"/>
            <a:ext cx="8510760" cy="23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nfluyen sobre el ciclo de emisión-deposició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. Características de las emisiones.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ipo de contaminante, altura y temperatura de las emisiones. Las emisiones gaseosas, a alta temperatura y en chimeneas altas se dispersan mej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b. Condiciones atmosféricas.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Borrascas y vientos favorecen dispersión. Precipitaciones favorecen el depósito. La insolación favorece la aparición de contaminantes secundari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. Características geográficas y topográficas.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n zonas costeras y valles hay brisas locales que favorecen relativamente la dispersión (la llevan y traen). Las montañas impiden la dispersión. En las ciudades hay menos viento y además, células convectivas con su entorno: islas térmicas. Muy importantes las capas de inversión térmic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. Presencia de vegetación.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acilita la deposición al parar el viento y retener partículas en sus hoj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39880" y="2397240"/>
            <a:ext cx="3471840" cy="1771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940280" y="2368440"/>
            <a:ext cx="3790800" cy="17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19040" y="606600"/>
            <a:ext cx="87249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Efectos de la contamin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5680" y="1278000"/>
            <a:ext cx="484164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odemos distinguir tres niveles: contaminación local, regional y globa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mo efectos más importantes estudiaremo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mog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, como efecto a nivel loca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Es una niebla sucia en grandes ciudades debida a reacciones entre ciertos contaminan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Más abundante en anticiclones e inversiones térmica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Irritante para ojos y mucosas respiratori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lluvia ácida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, como efecto a nivel region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Óxidos de N y de S se unen a H2O atmosférica y forman ácidos que dañan bosques, lagos y monumentos (mal de la piedr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fecto invernadero,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 nivel glob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Provocado por aumento de gases que absorben el calor como CO2, CH4 y otr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Produce calentamiento glob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estrucción de la capa de ozono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, también glob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e la interacción del ozono estratosférico con CFC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0" t="0" r="0" b="51270"/>
          <a:stretch/>
        </p:blipFill>
        <p:spPr>
          <a:xfrm>
            <a:off x="5119560" y="1512720"/>
            <a:ext cx="3552840" cy="1179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rcRect l="0" t="0" r="34019" b="0"/>
          <a:stretch/>
        </p:blipFill>
        <p:spPr>
          <a:xfrm>
            <a:off x="5121360" y="3132000"/>
            <a:ext cx="3556080" cy="1327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707080" y="4879800"/>
            <a:ext cx="2455920" cy="14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36600" y="606600"/>
            <a:ext cx="8807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336699"/>
                </a:solidFill>
                <a:latin typeface="Arial"/>
              </a:rPr>
              <a:t>Lucha contra los contamina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8440" y="1193760"/>
            <a:ext cx="86630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ciones preventivas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aminadas a evitar la contamin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000"/>
              </a:buClr>
              <a:buSzPct val="60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calización de industrias en lugares idóne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000"/>
              </a:buClr>
              <a:buSzPct val="60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cnología de baja o nula emisión de residu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000"/>
              </a:buClr>
              <a:buSzPct val="60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das legislativ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000"/>
              </a:buClr>
              <a:buSzPct val="60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das educativ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000"/>
              </a:buClr>
              <a:buSzPct val="60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moción energías alternativas limp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000"/>
              </a:buClr>
              <a:buSzPct val="60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valuaciones de impacto ambien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ciones correctoras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aminadas a disminuir la contaminación ya produci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000"/>
              </a:buClr>
              <a:buSzPct val="60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puración del aire contaminado mediante equipos adecu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000"/>
              </a:buClr>
              <a:buSzPct val="60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rategias que ayuden a la dispersión, como las altas chimen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352520" y="3506760"/>
            <a:ext cx="6515280" cy="184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8:25:37Z</dcterms:created>
  <dc:creator>pc</dc:creator>
  <dc:description/>
  <dc:language>en-US</dc:language>
  <cp:lastModifiedBy>pc</cp:lastModifiedBy>
  <cp:lastPrinted>2010-09-27T10:08:31Z</cp:lastPrinted>
  <dcterms:modified xsi:type="dcterms:W3CDTF">2010-09-07T06:38:25Z</dcterms:modified>
  <cp:revision>138</cp:revision>
  <dc:subject/>
  <dc:title>Diapositiva 1</dc:title>
</cp:coreProperties>
</file>