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27A-F0F9-45D5-A5CA-65F62105D4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87F-A10A-468D-9246-BF3C341882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8A9-D0CB-43BE-B2E4-1E9E8D0949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7B9-E450-4079-BD45-34788A09AB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677-64FA-4424-8E71-1005FFD7A8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6CC-3F55-48F9-BCA1-89BCFBB852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C64E-A61C-46AD-A577-2A4E469CC5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521-9FE3-448B-BE0B-44DF8352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50F-F043-4A2E-B662-68A35D1B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3C3-36F5-458E-9B2E-11F7C914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08F-873B-4A0D-B78F-CD5045A5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F1E3-8AEC-42C1-BBA0-42A2931A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EDF-B95B-4361-ABFC-4769D6FA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71D-2770-4296-AD78-25E6A50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971-F73D-410D-9A06-C5AA85A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D2AF-6D09-4AFC-9891-EAA2E63F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CC9-0F9D-490F-9288-F4CC6E4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86B0-6968-4F5E-8286-196AECB5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BCD-D86C-43FF-B986-4A3658E3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F410-C2A0-4276-9BB2-FFF3E6D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512-B3E3-4382-ABE7-B47A082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1A7-D158-4F07-AFCF-41A4B2F1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BD96-0D37-4C48-AF66-72EDABD9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DB40-4E15-4E11-BE28-B4FFDBAB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AB4-0D96-4A84-BC34-0940522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0C8-0833-459F-8BF0-D517319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4C4-2567-493A-9D1F-B6903FF9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C1F-392F-4B32-92F0-FB4558C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439-5730-4CD2-8ABB-773F61C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720-BFD2-4509-B606-F1B3B81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7AD-B556-49E6-B52E-C2EC817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21A5-9263-42E2-9284-2FBFC7AFCB58}" type="slidenum">
              <a:rPr b="0" lang="en-U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6463-6433-44BA-84FF-B614AC6E0B78}" type="slidenum">
              <a:rPr b="0" lang="en-U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logo EPA virtual"/>
          <p:cNvPicPr/>
          <p:nvPr/>
        </p:nvPicPr>
        <p:blipFill>
          <a:blip r:embed="rId2"/>
          <a:stretch/>
        </p:blipFill>
        <p:spPr>
          <a:xfrm>
            <a:off x="928800" y="857160"/>
            <a:ext cx="903240" cy="714600"/>
          </a:xfrm>
          <a:prstGeom prst="rect">
            <a:avLst/>
          </a:prstGeom>
          <a:ln w="0">
            <a:noFill/>
          </a:ln>
        </p:spPr>
      </p:pic>
      <p:pic>
        <p:nvPicPr>
          <p:cNvPr id="103" name="12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187280" y="256536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>
                    <a:alpha val="62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curvas isocuantas </a:t>
            </a:r>
            <a:endParaRPr b="0" lang="en-US" sz="1800" spc="1" strike="noStrike">
              <a:ln w="0">
                <a:noFill/>
              </a:ln>
              <a:solidFill>
                <a:srgbClr val="ff9933">
                  <a:alpha val="62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>
                    <a:alpha val="62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 sus propiedades</a:t>
            </a:r>
            <a:endParaRPr b="0" lang="en-US" sz="1800" spc="1" strike="noStrike">
              <a:ln w="0">
                <a:noFill/>
              </a:ln>
              <a:solidFill>
                <a:srgbClr val="ff9933">
                  <a:alpha val="62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logo EPA virtual"/>
          <p:cNvPicPr/>
          <p:nvPr/>
        </p:nvPicPr>
        <p:blipFill>
          <a:blip r:embed="rId2"/>
          <a:stretch/>
        </p:blipFill>
        <p:spPr>
          <a:xfrm>
            <a:off x="7929720" y="64296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106" name="7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44d26"/>
                </a:solidFill>
                <a:latin typeface="LilyUPC"/>
                <a:ea typeface="LilyUPC"/>
              </a:rPr>
              <a:t>Curvas isocuantas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267920"/>
            <a:ext cx="85694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36440" indent="-13644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la forma de representar la función de producción a largo plazo, cuando todos los factores productivos son variable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Una isocuanta es el conjunto de puntos (capital, trabajo) (K,L) que siendo técnicamente eficientes permiten obtener una misma cantidad de product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71520" indent="-142920" algn="just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da combinación (K,L) representa un proceso produc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71520" indent="-142920" algn="just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proceso es técnicamente eficiente si para obtener una determinada cantidad de producto no existe ningún otro que precise menos de un factor y como mucho la misma cantidad de otro. Ejemplos: Si para obtener 3 coches podemos recurrir a las siguientes combinaciones de K y L: (3,4); (2,5); (2,6); (3,5), podremos concluir qu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571320" indent="-114120" algn="just">
              <a:lnSpc>
                <a:spcPct val="100000"/>
              </a:lnSpc>
              <a:spcBef>
                <a:spcPts val="400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3,4) Es eficiente porque no hay ninguna combinación que use menos de uno de los factores y como mucho la misma cantidad del otr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571320" indent="-114120" algn="just">
              <a:lnSpc>
                <a:spcPct val="100000"/>
              </a:lnSpc>
              <a:spcBef>
                <a:spcPts val="400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2,5) Es eficiente porque no hay ninguna combinación que use menos de uno de los factores y como mucho la misma cantidad del otr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571320" indent="-114120" algn="just">
              <a:lnSpc>
                <a:spcPct val="100000"/>
              </a:lnSpc>
              <a:spcBef>
                <a:spcPts val="400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2,6) Es ineficiente porque la combinación (2,5) utiliza el mismo capital y menos trabaj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571320" indent="-114120" algn="just">
              <a:lnSpc>
                <a:spcPct val="100000"/>
              </a:lnSpc>
              <a:spcBef>
                <a:spcPts val="400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3,5) Es ineficiente porque la combinación (2,5) utiliza menos capital y el mismo trabaj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71520" indent="-142920" algn="just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logo EPA virtual"/>
          <p:cNvPicPr/>
          <p:nvPr/>
        </p:nvPicPr>
        <p:blipFill>
          <a:blip r:embed="rId2"/>
          <a:stretch/>
        </p:blipFill>
        <p:spPr>
          <a:xfrm>
            <a:off x="7929720" y="64296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7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44d26"/>
                </a:solidFill>
                <a:latin typeface="LilyUPC"/>
                <a:ea typeface="LilyUPC"/>
              </a:rPr>
              <a:t>Isocuantas: representación y propiedades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714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urvas isocuantas se representan así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3" name="5 Grupo"/>
          <p:cNvGrpSpPr/>
          <p:nvPr/>
        </p:nvGrpSpPr>
        <p:grpSpPr>
          <a:xfrm>
            <a:off x="324000" y="4724280"/>
            <a:ext cx="7272360" cy="1729080"/>
            <a:chOff x="324000" y="4724280"/>
            <a:chExt cx="7272360" cy="1729080"/>
          </a:xfrm>
        </p:grpSpPr>
        <p:sp>
          <p:nvSpPr>
            <p:cNvPr id="114" name="6 Rectángulo redondeado"/>
            <p:cNvSpPr/>
            <p:nvPr/>
          </p:nvSpPr>
          <p:spPr>
            <a:xfrm>
              <a:off x="324000" y="4724280"/>
              <a:ext cx="7272360" cy="1729080"/>
            </a:xfrm>
            <a:prstGeom prst="roundRect">
              <a:avLst>
                <a:gd name="adj" fmla="val 15620"/>
              </a:avLst>
            </a:prstGeom>
            <a:solidFill>
              <a:srgbClr val="f3a4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7 Rectángulo"/>
            <p:cNvSpPr/>
            <p:nvPr/>
          </p:nvSpPr>
          <p:spPr>
            <a:xfrm>
              <a:off x="681120" y="4797720"/>
              <a:ext cx="6558120" cy="15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83880" bIns="83880" anchor="t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ctr">
                <a:lnSpc>
                  <a:spcPct val="90000"/>
                </a:lnSpc>
                <a:spcAft>
                  <a:spcPts val="312"/>
                </a:spcAft>
                <a:buClr>
                  <a:srgbClr val="ffffff"/>
                </a:buClr>
                <a:buFont typeface="Constantia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s-ES" sz="17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ardinalida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ctr">
                <a:lnSpc>
                  <a:spcPct val="90000"/>
                </a:lnSpc>
                <a:spcAft>
                  <a:spcPts val="312"/>
                </a:spcAft>
                <a:buClr>
                  <a:srgbClr val="ffffff"/>
                </a:buClr>
                <a:buFont typeface="Constantia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s-ES" sz="17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Estricta convexida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ctr">
                <a:lnSpc>
                  <a:spcPct val="90000"/>
                </a:lnSpc>
                <a:spcAft>
                  <a:spcPts val="312"/>
                </a:spcAft>
                <a:buClr>
                  <a:srgbClr val="ffffff"/>
                </a:buClr>
                <a:buFont typeface="Constantia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s-ES" sz="17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No pueden cortar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8 CuadroTexto"/>
          <p:cNvSpPr/>
          <p:nvPr/>
        </p:nvSpPr>
        <p:spPr>
          <a:xfrm>
            <a:off x="2887560" y="4867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PROP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68320" y="985680"/>
            <a:ext cx="3352320" cy="3660120"/>
            <a:chOff x="1768320" y="985680"/>
            <a:chExt cx="3352320" cy="3660120"/>
          </a:xfrm>
        </p:grpSpPr>
        <p:sp>
          <p:nvSpPr>
            <p:cNvPr id="118" name=""/>
            <p:cNvSpPr/>
            <p:nvPr/>
          </p:nvSpPr>
          <p:spPr>
            <a:xfrm>
              <a:off x="2073240" y="2357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73240" y="4338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301840" y="1442520"/>
              <a:ext cx="2285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454120" y="1213920"/>
              <a:ext cx="2285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835360" y="985680"/>
              <a:ext cx="2285280" cy="259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9" y="402"/>
                  </a:moveTo>
                  <a:arcTo wR="10800" hR="10800" stAng="-4459207" swAng="445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9" y="402"/>
                  </a:moveTo>
                  <a:arcTo wR="10800" hR="10800" stAng="-4459207" swAng="4459207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54320" y="4338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8320" y="22050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1160" y="38815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97120" y="357660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9760" y="3424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643280" y="2276640"/>
            <a:ext cx="3673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K= Unidades de capital emple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= Unidades de trabajo emple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= Unidades de producto elabo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logo EPA virtual"/>
          <p:cNvPicPr/>
          <p:nvPr/>
        </p:nvPicPr>
        <p:blipFill>
          <a:blip r:embed="rId2"/>
          <a:stretch/>
        </p:blipFill>
        <p:spPr>
          <a:xfrm>
            <a:off x="7929720" y="64296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130" name="7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44d26"/>
                </a:solidFill>
                <a:latin typeface="LilyUPC"/>
                <a:ea typeface="LilyUPC"/>
              </a:rPr>
              <a:t>Isocuantas: propiedades (I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714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276640"/>
            <a:ext cx="36738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isocuantas más alejadas del origen representan un mayor nivel de produ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&lt;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&lt;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47640" y="1211040"/>
            <a:ext cx="3352320" cy="3660120"/>
            <a:chOff x="1547640" y="1211040"/>
            <a:chExt cx="3352320" cy="3660120"/>
          </a:xfrm>
        </p:grpSpPr>
        <p:sp>
          <p:nvSpPr>
            <p:cNvPr id="135" name=""/>
            <p:cNvSpPr/>
            <p:nvPr/>
          </p:nvSpPr>
          <p:spPr>
            <a:xfrm>
              <a:off x="1852560" y="258264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52560" y="45640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081160" y="1667880"/>
              <a:ext cx="2285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233440" y="1439280"/>
              <a:ext cx="2285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614680" y="1211040"/>
              <a:ext cx="2285280" cy="259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9" y="402"/>
                  </a:moveTo>
                  <a:arcTo wR="10800" hR="10800" stAng="-4459207" swAng="445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9" y="402"/>
                  </a:moveTo>
                  <a:arcTo wR="10800" hR="10800" stAng="-4459207" swAng="4459207"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33640" y="45640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24303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0480" y="4106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6440" y="380196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9080" y="3649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logo EPA virtual"/>
          <p:cNvPicPr/>
          <p:nvPr/>
        </p:nvPicPr>
        <p:blipFill>
          <a:blip r:embed="rId2"/>
          <a:stretch/>
        </p:blipFill>
        <p:spPr>
          <a:xfrm>
            <a:off x="7929720" y="64296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7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44d26"/>
                </a:solidFill>
                <a:latin typeface="LilyUPC"/>
                <a:ea typeface="LilyUPC"/>
              </a:rPr>
              <a:t>Isocuantas: propiedades (II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714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xid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276640"/>
            <a:ext cx="36738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lquier combinación lineal de dos procesos productivos permite obtener más cantidad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una consecuencia de la eficiencia técn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267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1295280"/>
            <a:ext cx="3504240" cy="3048120"/>
            <a:chOff x="609480" y="1295280"/>
            <a:chExt cx="3504240" cy="3048120"/>
          </a:xfrm>
        </p:grpSpPr>
        <p:sp>
          <p:nvSpPr>
            <p:cNvPr id="152" name=""/>
            <p:cNvSpPr/>
            <p:nvPr/>
          </p:nvSpPr>
          <p:spPr>
            <a:xfrm>
              <a:off x="914400" y="2514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400" y="43434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142640" y="1599840"/>
              <a:ext cx="2742480" cy="24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3200400"/>
              <a:ext cx="10666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218960" y="1294920"/>
              <a:ext cx="289440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920" y="38862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ee0000"/>
                  </a:solidFill>
                  <a:latin typeface="Tahoma"/>
                </a:rPr>
                <a:t>Q</a:t>
              </a:r>
              <a:r>
                <a:rPr b="1" lang="es-ES_tradnl" sz="1600" spc="-1" strike="noStrike" baseline="-25000">
                  <a:solidFill>
                    <a:srgbClr val="ee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35812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ee0000"/>
                  </a:solidFill>
                  <a:latin typeface="Tahoma"/>
                </a:rPr>
                <a:t>Q</a:t>
              </a:r>
              <a:r>
                <a:rPr b="1" lang="es-ES_tradnl" sz="1600" spc="-1" strike="noStrike" baseline="-25000">
                  <a:solidFill>
                    <a:srgbClr val="ee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480" y="2514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2920" y="1989000"/>
              <a:ext cx="19051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cc"/>
                  </a:solidFill>
                  <a:latin typeface="Arial"/>
                </a:rPr>
                <a:t>ESTRICTA CONVEX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9480" y="4648320"/>
            <a:ext cx="2819520" cy="1937520"/>
            <a:chOff x="609480" y="4648320"/>
            <a:chExt cx="2819520" cy="1937520"/>
          </a:xfrm>
        </p:grpSpPr>
        <p:sp>
          <p:nvSpPr>
            <p:cNvPr id="162" name=""/>
            <p:cNvSpPr/>
            <p:nvPr/>
          </p:nvSpPr>
          <p:spPr>
            <a:xfrm>
              <a:off x="914400" y="48769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6324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181480"/>
              <a:ext cx="106668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4160" y="4648320"/>
              <a:ext cx="190512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cc"/>
                  </a:solidFill>
                  <a:latin typeface="Tahoma"/>
                </a:rPr>
                <a:t>CONVEX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800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95480" y="62485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5334120"/>
              <a:ext cx="5335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0000" y="590076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ee0000"/>
                  </a:solidFill>
                  <a:latin typeface="Tahoma"/>
                </a:rPr>
                <a:t>Q</a:t>
              </a:r>
              <a:r>
                <a:rPr b="1" lang="es-ES_tradnl" sz="1600" spc="-1" strike="noStrike" baseline="-25000">
                  <a:solidFill>
                    <a:srgbClr val="ee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logo EPA virtual"/>
          <p:cNvPicPr/>
          <p:nvPr/>
        </p:nvPicPr>
        <p:blipFill>
          <a:blip r:embed="rId2"/>
          <a:stretch/>
        </p:blipFill>
        <p:spPr>
          <a:xfrm>
            <a:off x="7929720" y="64296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171" name="7 Imagen" descr="castillalamancha.jpg"/>
          <p:cNvPicPr/>
          <p:nvPr/>
        </p:nvPicPr>
        <p:blipFill>
          <a:blip r:embed="rId3"/>
          <a:stretch/>
        </p:blipFill>
        <p:spPr>
          <a:xfrm>
            <a:off x="7821720" y="6000840"/>
            <a:ext cx="1036440" cy="6429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44d26"/>
                </a:solidFill>
                <a:latin typeface="LilyUPC"/>
                <a:ea typeface="LilyUPC"/>
              </a:rPr>
              <a:t>Isocuantas: propiedades (III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1714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ueden cortars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276640"/>
            <a:ext cx="3961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pudieran cortarse en A se obtendría lo mismo que en B y lo mismo que en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se caso, cuando comparamos los puntos B y C –en los que según la premisa del párrafo superior se estaría produciendo lo mismo- comprobaríamos que en B se está utilizando el mismo trabajo que en C pero más capital. Esto contradice la premisa de que las isocuantas unan procesos técnicamente efic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5800" y="1066320"/>
            <a:ext cx="5028840" cy="4379400"/>
            <a:chOff x="685800" y="1066320"/>
            <a:chExt cx="5028840" cy="4379400"/>
          </a:xfrm>
        </p:grpSpPr>
        <p:sp>
          <p:nvSpPr>
            <p:cNvPr id="176" name=""/>
            <p:cNvSpPr/>
            <p:nvPr/>
          </p:nvSpPr>
          <p:spPr>
            <a:xfrm>
              <a:off x="1066680" y="2743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6680" y="5105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294200" y="1675080"/>
              <a:ext cx="4419720" cy="30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73" y="35"/>
                  </a:moveTo>
                  <a:arcTo wR="10800" hR="10800" stAng="-5121928" swAng="5121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73" y="35"/>
                  </a:moveTo>
                  <a:arcTo wR="10800" hR="10800" stAng="-5121928" swAng="5121928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1523520" y="1065960"/>
              <a:ext cx="350496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120" y="4292640"/>
              <a:ext cx="110880" cy="115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7280" y="37400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2680" y="44197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Tahoma"/>
                </a:rPr>
                <a:t>Q</a:t>
              </a:r>
              <a:r>
                <a:rPr b="1" lang="es-ES_tradnl" sz="1600" spc="-1" strike="noStrike" baseline="-25000">
                  <a:solidFill>
                    <a:srgbClr val="ff33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27432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ee0000"/>
                  </a:solidFill>
                  <a:latin typeface="Tahoma"/>
                </a:rPr>
                <a:t>Q</a:t>
              </a:r>
              <a:r>
                <a:rPr b="1" lang="es-ES_tradnl" sz="1600" spc="-1" strike="noStrike" baseline="-25000">
                  <a:solidFill>
                    <a:srgbClr val="ee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51055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2514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47640" y="328464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4292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04292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3280" y="5108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6360" y="3213000"/>
              <a:ext cx="111240" cy="115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6360" y="3860640"/>
              <a:ext cx="111240" cy="115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7080" y="41781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19280" y="3068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SS</cp:lastModifiedBy>
  <dcterms:modified xsi:type="dcterms:W3CDTF">2009-05-06T07:35:51Z</dcterms:modified>
  <cp:revision>78</cp:revision>
  <dc:subject/>
  <dc:title>Tema 1. La actividad económ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Estado">
    <vt:lpwstr>Subido</vt:lpwstr>
  </property>
</Properties>
</file>