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D09613A-1E3C-474F-95E2-CCD9538BB3C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B07A2EB-4341-4903-AB0C-A552D48EBBB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27D0510-27EF-46EC-AFFE-A2F12A56537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6EA1B40-066E-45ED-A04B-28827CACD66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29F120D-95DD-4AD5-8899-967A43C35A2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7940D35-F665-4CB3-8BD5-A351D5C21C3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C6CE15B-CEA0-47EB-A9AE-9D8386118A6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21F446B-A54B-448E-9E9A-1CC7E265002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EBEC089-92C5-49B7-A651-CFFB259823E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AB7B11F-9956-4184-A5B5-5554705DD96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26F6-0029-466F-AFD4-12B69620D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B41D-3CC7-4634-895A-8278BA71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8150-FF3B-4DA3-B860-C2E991E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2797-FDB1-4780-98B7-8E61C3C7C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0D44-F1E3-4F61-AEE6-AA4F9A2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57B7E-52C6-4FFF-A2A4-EC1AFE021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A1AE8-9121-467A-86BF-4C3F27D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968A-0F81-4444-BC9D-2600E56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A62D-61C5-4817-BE36-64B0545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4A3C-8496-425B-885C-58C9348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4C27-FE0A-45CF-811C-6D4BDCD7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D46E-816E-4EB7-AD9D-7C275211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D0040-D0C6-4EA9-98DC-3483CDD0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BFE9-80A4-4CDB-B617-2F237D8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9B4AC-990C-4E5B-A053-D1B18F27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FED8B-5DD7-4EAF-ACE3-617D3204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78E4C-0F36-4EFB-A900-C81038F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24123-74B7-467A-9155-56A9C5A5A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E9F1-9A16-428D-ACB6-A3DA23B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1CAF-1607-43EE-9646-C7203EE2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5D98-AACA-432A-8C58-CEFDA0FB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2DD1-E665-414B-93BF-A7578BC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690D-D06F-4526-9F05-9BF6631B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A31D-40EB-44EC-BAB0-E17CED63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58297-FC92-44AE-999E-1A4615441174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27280" y="6583320"/>
            <a:ext cx="651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Paco is in San Francis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B6D226-98F9-4432-A7F5-2358DC417245}" type="slidenum">
              <a:rPr b="0" lang="en-U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700360" y="134136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visits Canada and the USA: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is in San Francis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076720" y="6021360"/>
            <a:ext cx="3178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y Vlastula, Creative Common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2" descr="golden_gate_bridge"/>
          <p:cNvPicPr/>
          <p:nvPr/>
        </p:nvPicPr>
        <p:blipFill>
          <a:blip r:embed="rId1"/>
          <a:stretch/>
        </p:blipFill>
        <p:spPr>
          <a:xfrm>
            <a:off x="5508720" y="400536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LilyUPC"/>
              </a:rPr>
              <a:t>Direct and indirect spee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116000" y="1989000"/>
            <a:ext cx="70992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I’m going to Golden Gate Bridge’, he sai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TELL + OBJECT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SAY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68360" y="83664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LilyUPC"/>
              </a:rPr>
              <a:t>Changes in reported spee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258920" y="1844640"/>
            <a:ext cx="7129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You can use a cable car’ said Pac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3880" y="2565360"/>
          <a:ext cx="6096240" cy="3729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RECT SPEE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PORTED SPEE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otation mark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iginal words at the beginning or at the en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can name the speaker at the beginning or at the en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ennifer said = said Jenni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T POSSIBLE: *said 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don’t use quotation mark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 use ‘that’ after the reporting ver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: one step bac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hanges in personal pronouns and references to time or pl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6836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LilyUPC"/>
              </a:rPr>
              <a:t>Changes in reported spee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00000" y="1125360"/>
            <a:ext cx="76327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The girl said that it was a wonderful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58920" y="1916280"/>
          <a:ext cx="6769080" cy="4371840"/>
        </p:xfrm>
        <a:graphic>
          <a:graphicData uri="http://schemas.openxmlformats.org/drawingml/2006/table">
            <a:tbl>
              <a:tblPr/>
              <a:tblGrid>
                <a:gridCol w="3384360"/>
                <a:gridCol w="33847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FERENCES TO TIME OR PLA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 TENS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is/ these-that/th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re- th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day- that d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night- that n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morrow- the following d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terday- the day bef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ext week- the following we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st week- the week bef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wo weeks ago- two weeks bef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sent simple- pas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sent continuous- pas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t simple- 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sent perfect- 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ill- wou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n- cou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99"/>
                </a:solidFill>
                <a:latin typeface="LilyUPC"/>
              </a:rPr>
              <a:t>Writing: opinion essay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20720" y="1609560"/>
            <a:ext cx="4825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Paco thinks zoos are cru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my 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far as I’m conce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seems to 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agre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is idea is absolutely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think it is a bad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el</cp:lastModifiedBy>
  <dcterms:modified xsi:type="dcterms:W3CDTF">2010-04-08T06:57:03Z</dcterms:modified>
  <cp:revision>42</cp:revision>
  <dc:subject/>
  <dc:title>Estudiamos las palabras invariables</dc:title>
</cp:coreProperties>
</file>