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03640" y="6480000"/>
            <a:ext cx="414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Resolviendo problemas: ¡Por sistem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ntiuser/4293978363/" TargetMode="External"/><Relationship Id="rId2" Type="http://schemas.openxmlformats.org/officeDocument/2006/relationships/hyperlink" Target="http://www.flickr.com/photos/antiuser/4293978363/" TargetMode="External"/><Relationship Id="rId3" Type="http://schemas.openxmlformats.org/officeDocument/2006/relationships/hyperlink" Target="http://www.flickr.com/photos/antiuser/4293978363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ckook/406410716/" TargetMode="External"/><Relationship Id="rId2" Type="http://schemas.openxmlformats.org/officeDocument/2006/relationships/hyperlink" Target="http://www.flickr.com/photos/ackook/406410716/" TargetMode="External"/><Relationship Id="rId3" Type="http://schemas.openxmlformats.org/officeDocument/2006/relationships/hyperlink" Target="http://www.flickr.com/photos/ackook/406410716/" TargetMode="External"/><Relationship Id="rId4" Type="http://schemas.openxmlformats.org/officeDocument/2006/relationships/hyperlink" Target="http://www.flickr.com/photos/ackook/406410716/" TargetMode="External"/><Relationship Id="rId5" Type="http://schemas.openxmlformats.org/officeDocument/2006/relationships/hyperlink" Target="http://www.flickr.com/photos/ackook/406410716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savior1980/510715457" TargetMode="External"/><Relationship Id="rId3" Type="http://schemas.openxmlformats.org/officeDocument/2006/relationships/hyperlink" Target="http://www.flickr.com/photos/savior1980/510715457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3480" y="725040"/>
            <a:ext cx="8336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Resolviendo problemas: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¡Por sistema!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2397240"/>
            <a:ext cx="44690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Las ecuaciones nos resuelven los problem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0360" y="5580000"/>
            <a:ext cx="370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he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Pizza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quiatio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image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tiuse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cencia CC by-nc-sa/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859280" y="2565360"/>
            <a:ext cx="39132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81040" y="899640"/>
            <a:ext cx="823896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ecuación lineal es aquella en las que las variables aparecen multiplicadas por números y suma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3x + 5y -3z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600360"/>
            <a:ext cx="79200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llama sistema de ecuaciones lineales a un conjunto de ecuaciones referidas todas ellas a las mismas incógnit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5360" y="813960"/>
            <a:ext cx="823428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sistemas pueden ser de distintos ti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00" y="1440000"/>
            <a:ext cx="36464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atible determin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si tienen una única 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atible indetermin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si tienen infinitas solu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compatibl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si no tienen 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5877000"/>
            <a:ext cx="3753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ack's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hristmas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Equatio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image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ck Ook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bajo licencia CC by-sa/2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48360" y="1557360"/>
            <a:ext cx="318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2962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étodo de Rouché nos permite estudiar como es un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16280"/>
            <a:ext cx="8296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el rango de la matriz de los coeficientes y de la matriz ampliada son iguales al número de incógnitas, el sistema es Compatible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los rangos de las matrices de los coeficientes y ampliada son iguales pero menor que el número de incógnitas, es Compatible Indeter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el rango de la matriz de los coeficientes es distinto del de la matriz ampliada el sistema es Incompat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77533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étodo de Gauss se puede aplicar para estudiar y re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889360"/>
            <a:ext cx="33382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ta triangularizar la matriz ampliada y reconstruir el sistema resultante, que será escalon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64160" y="1413000"/>
            <a:ext cx="3294000" cy="43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84920" y="5970600"/>
            <a:ext cx="39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Óptica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Ferma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image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avior198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bajo licencia CC by-nc-sa/2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*</cp:lastModifiedBy>
  <dcterms:modified xsi:type="dcterms:W3CDTF">2010-05-14T11:38:50Z</dcterms:modified>
  <cp:revision>33</cp:revision>
  <dc:subject/>
  <dc:title>Diapositiva 1</dc:title>
</cp:coreProperties>
</file>