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8A36-DC7D-4FE8-BF79-8CED9AA01E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4419-FF22-4F51-8D22-798A0BA5C83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AD3B-E2A8-47A6-AE9C-3F443302620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BA01-9A10-48CA-8F0F-3CDA35EFB77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E51-306C-4AF9-B8DA-7E95B032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950-E046-4755-9DEC-4458B03E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BCE-310F-4729-A421-095B320A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FE2-FB81-483B-AB4E-EAE95A6D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74A-8490-4AFA-AF4B-9362E91C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E0D-6152-4D9B-9457-726CCFAB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C66-9D4C-4B92-BD9F-175261E6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1C2-AB35-4C38-82E8-2ADD1B70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47B-DF0F-4818-904D-7F5609A2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815-7F55-4CF2-B0A6-78167CEC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DEB-0807-4192-A0E8-B71F7D28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F42-B8E5-4FEC-B150-8E434643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98FC-EA82-430F-AEFB-F6FEFBCD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2507-6355-4509-BB2E-E4797436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FF5D-DB6A-4E94-96A2-07D8A209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608D-EF70-4C4D-ACC0-BFE66F14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626F-0E31-48D8-975B-36C000B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4BEE-8EDB-4FEF-A714-D05D590B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20F2-5B34-4949-849A-749B8E9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3338-C31D-4CA6-B4A5-66D2661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3152-6545-4837-BEA4-45EC5001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E084-A4EF-40D4-9B4D-450D836F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762F-6784-478D-B93F-520D70F0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F536-3DAC-4D06-B12E-9258593D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Evolución y desarrollo de las 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8AEE-44F5-46BA-8DA0-63855AF7FC5B}" type="slidenum">
              <a:rPr b="0" lang="es-ES" sz="1200" spc="-1" strike="noStrike">
                <a:solidFill>
                  <a:srgbClr val="4049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6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7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9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E1AE-233E-43F1-8291-C998A0A8D577}" type="slidenum">
              <a:rPr b="0" lang="es-ES" sz="1200" spc="-1" strike="noStrike">
                <a:solidFill>
                  <a:srgbClr val="4049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tu.int/net/home/index-es.aspx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La aldea global: 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Evolución y desarrollo de las TIC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336699"/>
                </a:solidFill>
                <a:latin typeface="LilyUPC"/>
                <a:ea typeface="LilyUPC"/>
              </a:rPr>
              <a:t>La Sociedad de la Información y las TICs</a:t>
            </a:r>
            <a:endParaRPr b="1" lang="en-US" sz="3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2214360"/>
            <a:ext cx="404316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ociedad de la Información y la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285840" y="3929040"/>
            <a:ext cx="40431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Tecnologías de la Información y la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7 Flecha abajo"/>
          <p:cNvSpPr/>
          <p:nvPr/>
        </p:nvSpPr>
        <p:spPr>
          <a:xfrm rot="16200000">
            <a:off x="3786120" y="2928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8 Cerrar llave"/>
          <p:cNvSpPr/>
          <p:nvPr/>
        </p:nvSpPr>
        <p:spPr>
          <a:xfrm rot="10800000">
            <a:off x="4357800" y="2428920"/>
            <a:ext cx="357120" cy="15717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571760"/>
              <a:gd name="textAreaBottom" fmla="*/ 156276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9 Cerrar llave"/>
          <p:cNvSpPr/>
          <p:nvPr/>
        </p:nvSpPr>
        <p:spPr>
          <a:xfrm rot="10800000">
            <a:off x="4357800" y="4143240"/>
            <a:ext cx="357120" cy="15717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571760"/>
              <a:gd name="textAreaBottom" fmla="*/ 156276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0 Flecha abajo"/>
          <p:cNvSpPr/>
          <p:nvPr/>
        </p:nvSpPr>
        <p:spPr>
          <a:xfrm rot="16200000">
            <a:off x="3785760" y="4642920"/>
            <a:ext cx="357480" cy="6429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CuadroTexto"/>
          <p:cNvSpPr/>
          <p:nvPr/>
        </p:nvSpPr>
        <p:spPr>
          <a:xfrm>
            <a:off x="4857840" y="257184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usas de su expa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3 CuadroTexto"/>
          <p:cNvSpPr/>
          <p:nvPr/>
        </p:nvSpPr>
        <p:spPr>
          <a:xfrm>
            <a:off x="4857840" y="430056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olución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2 Marcador de contenido"/>
          <p:cNvSpPr/>
          <p:nvPr/>
        </p:nvSpPr>
        <p:spPr>
          <a:xfrm>
            <a:off x="285840" y="5715000"/>
            <a:ext cx="4043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spectivas de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71680" y="2478240"/>
            <a:ext cx="792936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m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ciedad de la Información y la Comunic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aquella en la que el tratamiento, distribución y uso de la información organiza y controla las actividades en todos los cam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 Título"/>
          <p:cNvSpPr/>
          <p:nvPr/>
        </p:nvSpPr>
        <p:spPr>
          <a:xfrm>
            <a:off x="5716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6699"/>
                </a:solidFill>
                <a:latin typeface="LilyUPC"/>
                <a:ea typeface="LilyUPC"/>
              </a:rPr>
              <a:t>La Sociedad de la Información y la Comunic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127.0.0.1:51235/TIC_U1_T1_contenidos/resources/collage.jpg"/>
          <p:cNvPicPr/>
          <p:nvPr/>
        </p:nvPicPr>
        <p:blipFill>
          <a:blip r:embed="rId1"/>
          <a:stretch/>
        </p:blipFill>
        <p:spPr>
          <a:xfrm>
            <a:off x="3571920" y="4143240"/>
            <a:ext cx="2619360" cy="2527560"/>
          </a:xfrm>
          <a:prstGeom prst="rect">
            <a:avLst/>
          </a:prstGeom>
          <a:ln w="0">
            <a:noFill/>
          </a:ln>
        </p:spPr>
      </p:pic>
      <p:grpSp>
        <p:nvGrpSpPr>
          <p:cNvPr id="152" name="7 Llamada rectangular redondeada"/>
          <p:cNvGrpSpPr/>
          <p:nvPr/>
        </p:nvGrpSpPr>
        <p:grpSpPr>
          <a:xfrm>
            <a:off x="841320" y="5913360"/>
            <a:ext cx="2633760" cy="536760"/>
            <a:chOff x="841320" y="5913360"/>
            <a:chExt cx="2633760" cy="536760"/>
          </a:xfrm>
        </p:grpSpPr>
        <p:pic>
          <p:nvPicPr>
            <p:cNvPr id="153" name="7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841320" y="5913360"/>
              <a:ext cx="26337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80920" y="5952960"/>
              <a:ext cx="16671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8 Llamada rectangular redondeada"/>
          <p:cNvGrpSpPr/>
          <p:nvPr/>
        </p:nvGrpSpPr>
        <p:grpSpPr>
          <a:xfrm>
            <a:off x="841320" y="4413240"/>
            <a:ext cx="2597040" cy="579600"/>
            <a:chOff x="841320" y="4413240"/>
            <a:chExt cx="2597040" cy="579600"/>
          </a:xfrm>
        </p:grpSpPr>
        <p:pic>
          <p:nvPicPr>
            <p:cNvPr id="156" name="8 Llamada rectangular redondeada" descr=""/>
            <p:cNvPicPr/>
            <p:nvPr/>
          </p:nvPicPr>
          <p:blipFill>
            <a:blip r:embed="rId3"/>
            <a:stretch/>
          </p:blipFill>
          <p:spPr>
            <a:xfrm>
              <a:off x="841320" y="4413240"/>
              <a:ext cx="25970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880920" y="4452840"/>
              <a:ext cx="16671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9 Llamada rectangular redondeada"/>
          <p:cNvGrpSpPr/>
          <p:nvPr/>
        </p:nvGrpSpPr>
        <p:grpSpPr>
          <a:xfrm>
            <a:off x="6450120" y="4194000"/>
            <a:ext cx="2286000" cy="536760"/>
            <a:chOff x="6450120" y="4194000"/>
            <a:chExt cx="2286000" cy="536760"/>
          </a:xfrm>
        </p:grpSpPr>
        <p:pic>
          <p:nvPicPr>
            <p:cNvPr id="159" name="9 Llamada rectangular redondeada" descr=""/>
            <p:cNvPicPr/>
            <p:nvPr/>
          </p:nvPicPr>
          <p:blipFill>
            <a:blip r:embed="rId4"/>
            <a:stretch/>
          </p:blipFill>
          <p:spPr>
            <a:xfrm>
              <a:off x="6450120" y="4194000"/>
              <a:ext cx="2286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024680" y="4238640"/>
              <a:ext cx="1666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Económ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10 Llamada rectangular redondeada"/>
          <p:cNvGrpSpPr/>
          <p:nvPr/>
        </p:nvGrpSpPr>
        <p:grpSpPr>
          <a:xfrm>
            <a:off x="6437160" y="5340240"/>
            <a:ext cx="2298960" cy="536760"/>
            <a:chOff x="6437160" y="5340240"/>
            <a:chExt cx="2298960" cy="536760"/>
          </a:xfrm>
        </p:grpSpPr>
        <p:pic>
          <p:nvPicPr>
            <p:cNvPr id="162" name="10 Llamada rectangular redondeada" descr=""/>
            <p:cNvPicPr/>
            <p:nvPr/>
          </p:nvPicPr>
          <p:blipFill>
            <a:blip r:embed="rId5"/>
            <a:stretch/>
          </p:blipFill>
          <p:spPr>
            <a:xfrm>
              <a:off x="6437160" y="5340240"/>
              <a:ext cx="2298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024680" y="5381640"/>
              <a:ext cx="1666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760" y="2357280"/>
            <a:ext cx="52149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ntidad de inform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lobalizació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edios de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cceso a l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6922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336699"/>
                </a:solidFill>
                <a:latin typeface="LilyUPC"/>
                <a:ea typeface="LilyUPC"/>
              </a:rPr>
              <a:t>Causas de su expansión</a:t>
            </a:r>
            <a:endParaRPr b="1" lang="en-US" sz="3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5 Flecha derecha"/>
          <p:cNvSpPr/>
          <p:nvPr/>
        </p:nvSpPr>
        <p:spPr>
          <a:xfrm>
            <a:off x="4429080" y="2286000"/>
            <a:ext cx="1285920" cy="714240"/>
          </a:xfrm>
          <a:prstGeom prst="right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222268"/>
              </a:gs>
              <a:gs pos="100000">
                <a:srgbClr val="effafb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6 Flecha derecha"/>
          <p:cNvSpPr/>
          <p:nvPr/>
        </p:nvSpPr>
        <p:spPr>
          <a:xfrm>
            <a:off x="4429080" y="3643200"/>
            <a:ext cx="1285920" cy="71460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222268"/>
              </a:gs>
              <a:gs pos="100000">
                <a:srgbClr val="effafb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7 CuadroTexto"/>
          <p:cNvSpPr/>
          <p:nvPr/>
        </p:nvSpPr>
        <p:spPr>
          <a:xfrm>
            <a:off x="5786280" y="2214720"/>
            <a:ext cx="30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cesita medios capaces para procesarla y transmitir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8 CuadroTexto"/>
          <p:cNvSpPr/>
          <p:nvPr/>
        </p:nvSpPr>
        <p:spPr>
          <a:xfrm>
            <a:off x="5786280" y="3429000"/>
            <a:ext cx="30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e que la información en cualquier punto del planeta sea asequible a todo 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9 Flecha derecha"/>
          <p:cNvSpPr/>
          <p:nvPr/>
        </p:nvSpPr>
        <p:spPr>
          <a:xfrm>
            <a:off x="4429080" y="4929120"/>
            <a:ext cx="1285920" cy="71460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222268"/>
              </a:gs>
              <a:gs pos="100000">
                <a:srgbClr val="effafb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12 CuadroTexto"/>
          <p:cNvSpPr/>
          <p:nvPr/>
        </p:nvSpPr>
        <p:spPr>
          <a:xfrm>
            <a:off x="5786280" y="472932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ha extendido desde los ámbitos más específicos hasta los domés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336699"/>
                </a:solidFill>
                <a:latin typeface="LilyUPC"/>
                <a:ea typeface="LilyUPC"/>
              </a:rPr>
              <a:t>Tecnologías de la Información y la Comunicación</a:t>
            </a:r>
            <a:endParaRPr b="1" lang="en-US" sz="3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7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mos la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C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aquellos equipos, medios, servicios y conocimientos utilizados para almacenar, procesar y transmitir inform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Unión Internacional de Telecomunicaci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5286240"/>
            <a:ext cx="1809720" cy="714600"/>
          </a:xfrm>
          <a:prstGeom prst="rect">
            <a:avLst/>
          </a:prstGeom>
          <a:ln w="0">
            <a:noFill/>
          </a:ln>
        </p:spPr>
      </p:pic>
      <p:sp>
        <p:nvSpPr>
          <p:cNvPr id="175" name="7 CuadroTexto"/>
          <p:cNvSpPr/>
          <p:nvPr/>
        </p:nvSpPr>
        <p:spPr>
          <a:xfrm>
            <a:off x="857160" y="3857760"/>
            <a:ext cx="1143000" cy="642600"/>
          </a:xfrm>
          <a:prstGeom prst="rect">
            <a:avLst/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100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8 Flecha derecha"/>
          <p:cNvGrpSpPr/>
          <p:nvPr/>
        </p:nvGrpSpPr>
        <p:grpSpPr>
          <a:xfrm>
            <a:off x="2481120" y="3822840"/>
            <a:ext cx="828720" cy="500040"/>
            <a:chOff x="2481120" y="3822840"/>
            <a:chExt cx="828720" cy="500040"/>
          </a:xfrm>
        </p:grpSpPr>
        <p:pic>
          <p:nvPicPr>
            <p:cNvPr id="177" name="8 Flecha derecha" descr=""/>
            <p:cNvPicPr/>
            <p:nvPr/>
          </p:nvPicPr>
          <p:blipFill>
            <a:blip r:embed="rId3"/>
            <a:stretch/>
          </p:blipFill>
          <p:spPr>
            <a:xfrm>
              <a:off x="2481120" y="3822840"/>
              <a:ext cx="8287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500200" y="3965400"/>
              <a:ext cx="6778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9 Esquina doblada"/>
          <p:cNvSpPr/>
          <p:nvPr/>
        </p:nvSpPr>
        <p:spPr>
          <a:xfrm>
            <a:off x="2714760" y="4929120"/>
            <a:ext cx="4714920" cy="1428840"/>
          </a:xfrm>
          <a:prstGeom prst="foldedCorner">
            <a:avLst>
              <a:gd name="adj" fmla="val 30189"/>
            </a:avLst>
          </a:prstGeom>
          <a:solidFill>
            <a:srgbClr val="0033cc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organismo que regula el sector de las telecomunicaciones a nivel mundial es la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ión Internacional de Telecomunicaciones (UIT)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10 Imagen" descr="pantalla.jpg"/>
          <p:cNvPicPr/>
          <p:nvPr/>
        </p:nvPicPr>
        <p:blipFill>
          <a:blip r:embed="rId4"/>
          <a:srcRect l="12598" t="9252" r="19341" b="0"/>
          <a:stretch/>
        </p:blipFill>
        <p:spPr>
          <a:xfrm>
            <a:off x="3643200" y="342900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12 Imagen" descr="planeta.jpg"/>
          <p:cNvPicPr/>
          <p:nvPr/>
        </p:nvPicPr>
        <p:blipFill>
          <a:blip r:embed="rId5"/>
          <a:srcRect l="6252" t="13794" r="12504" b="0"/>
          <a:stretch/>
        </p:blipFill>
        <p:spPr>
          <a:xfrm>
            <a:off x="6286680" y="3286080"/>
            <a:ext cx="1428480" cy="1373400"/>
          </a:xfrm>
          <a:prstGeom prst="rect">
            <a:avLst/>
          </a:prstGeom>
          <a:ln w="0">
            <a:noFill/>
          </a:ln>
        </p:spPr>
      </p:pic>
      <p:grpSp>
        <p:nvGrpSpPr>
          <p:cNvPr id="182" name="23 Grupo"/>
          <p:cNvGrpSpPr/>
          <p:nvPr/>
        </p:nvGrpSpPr>
        <p:grpSpPr>
          <a:xfrm>
            <a:off x="5214600" y="3499920"/>
            <a:ext cx="1143360" cy="1072080"/>
            <a:chOff x="5214600" y="3499920"/>
            <a:chExt cx="1143360" cy="1072080"/>
          </a:xfrm>
        </p:grpSpPr>
        <p:cxnSp>
          <p:nvCxnSpPr>
            <p:cNvPr id="183" name="14 Conector recto de flecha"/>
            <p:cNvCxnSpPr/>
            <p:nvPr/>
          </p:nvCxnSpPr>
          <p:spPr>
            <a:xfrm flipV="1">
              <a:off x="5214600" y="3499920"/>
              <a:ext cx="1143720" cy="286560"/>
            </a:xfrm>
            <a:prstGeom prst="straightConnector1">
              <a:avLst/>
            </a:prstGeom>
            <a:ln w="38160">
              <a:solidFill>
                <a:srgbClr val="404040"/>
              </a:solidFill>
              <a:miter/>
              <a:tailEnd len="med" type="triangle" w="med"/>
            </a:ln>
          </p:spPr>
        </p:cxnSp>
        <p:cxnSp>
          <p:nvCxnSpPr>
            <p:cNvPr id="184" name="19 Conector recto de flecha"/>
            <p:cNvCxnSpPr/>
            <p:nvPr/>
          </p:nvCxnSpPr>
          <p:spPr>
            <a:xfrm>
              <a:off x="5214960" y="4071960"/>
              <a:ext cx="1000800" cy="2160"/>
            </a:xfrm>
            <a:prstGeom prst="straightConnector1">
              <a:avLst/>
            </a:prstGeom>
            <a:ln w="38160">
              <a:solidFill>
                <a:srgbClr val="404040"/>
              </a:solidFill>
              <a:miter/>
              <a:tailEnd len="med" type="triangle" w="med"/>
            </a:ln>
          </p:spPr>
        </p:cxnSp>
        <p:cxnSp>
          <p:nvCxnSpPr>
            <p:cNvPr id="185" name="20 Conector recto de flecha"/>
            <p:cNvCxnSpPr/>
            <p:nvPr/>
          </p:nvCxnSpPr>
          <p:spPr>
            <a:xfrm>
              <a:off x="5214600" y="4357440"/>
              <a:ext cx="1143720" cy="214920"/>
            </a:xfrm>
            <a:prstGeom prst="straightConnector1">
              <a:avLst/>
            </a:prstGeom>
            <a:ln w="38160">
              <a:solidFill>
                <a:srgbClr val="40404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336699"/>
                </a:solidFill>
                <a:latin typeface="LilyUPC"/>
              </a:rPr>
              <a:t>Evolución y desarrollo</a:t>
            </a:r>
            <a:endParaRPr b="1" lang="en-US" sz="3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7" name="6 Diagrama" descr=""/>
          <p:cNvPicPr/>
          <p:nvPr/>
        </p:nvPicPr>
        <p:blipFill>
          <a:blip r:embed="rId1"/>
          <a:stretch/>
        </p:blipFill>
        <p:spPr>
          <a:xfrm>
            <a:off x="1474920" y="1328760"/>
            <a:ext cx="637056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336699"/>
                </a:solidFill>
                <a:latin typeface="Arial"/>
              </a:rPr>
              <a:t>Perspectivas de Futuro</a:t>
            </a:r>
            <a:endParaRPr b="1" lang="en-US" sz="3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9" name="10 Diagrama" descr=""/>
          <p:cNvPicPr/>
          <p:nvPr/>
        </p:nvPicPr>
        <p:blipFill>
          <a:blip r:embed="rId1"/>
          <a:stretch/>
        </p:blipFill>
        <p:spPr>
          <a:xfrm>
            <a:off x="920880" y="1500120"/>
            <a:ext cx="67546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05:25Z</dcterms:created>
  <dc:creator>Genesis XXI</dc:creator>
  <dc:description/>
  <dc:language>en-US</dc:language>
  <cp:lastModifiedBy> Consuelo</cp:lastModifiedBy>
  <dcterms:modified xsi:type="dcterms:W3CDTF">2011-04-13T10:42:38Z</dcterms:modified>
  <cp:revision>51</cp:revision>
  <dc:subject/>
  <dc:title>Tema 1. La actividad económ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o</vt:lpwstr>
  </property>
  <property fmtid="{D5CDD505-2E9C-101B-9397-08002B2CF9AE}" pid="3" name="Estado">
    <vt:lpwstr>Subido</vt:lpwstr>
  </property>
</Properties>
</file>