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1200" y="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0200" cy="3832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5400" cy="46004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1"/>
          </p:nvPr>
        </p:nvSpPr>
        <p:spPr>
          <a:xfrm>
            <a:off x="4020840" y="9721440"/>
            <a:ext cx="3071880" cy="506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C3186-44A7-4EA2-8A84-DADDE00C346B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AA756-CEF9-4EE4-96FD-5FB04840641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76652-7BDD-48CE-A964-2D2876D40A01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F2CBF-39CC-4478-A2D1-48FD47E00934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4354D-0EBD-4575-ACC3-DDDB2F984B94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AF575-B9CC-4BA4-B128-C8FC49638A3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1A268-39B2-4E5C-A3B8-375BBEAC1B8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F3579-A42E-406E-9382-2A0180DDE70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DD8E8-0AB0-4F8C-8E3E-F7B6B3164D7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B70D5-F5B4-41E9-B51F-51F60583593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CB7E1-9AD1-4D37-A67F-DE54F3DD790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8680" y="371160"/>
            <a:ext cx="8312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371160"/>
            <a:ext cx="8312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8680" y="371160"/>
            <a:ext cx="8312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8680" y="371160"/>
            <a:ext cx="8312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371160"/>
            <a:ext cx="8312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371160"/>
            <a:ext cx="8312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8680" y="371160"/>
            <a:ext cx="8312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8680" y="371160"/>
            <a:ext cx="831204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8680" y="371160"/>
            <a:ext cx="8312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8680" y="371160"/>
            <a:ext cx="8312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8680" y="371160"/>
            <a:ext cx="8312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371160"/>
            <a:ext cx="8312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28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03640" y="6583320"/>
            <a:ext cx="594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rebuchet MS"/>
                <a:ea typeface="MS Gothic"/>
              </a:rPr>
              <a:t>Paco was visiting the city of Brighton when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cap="sq"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84360" y="3608280"/>
            <a:ext cx="446400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19280" y="3357720"/>
            <a:ext cx="6095880" cy="2376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880560"/>
            <a:ext cx="83152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Paco's dream comes true: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Paco was visiting the city of Brighton when …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2064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Constantia"/>
              </a:rPr>
              <a:t>The Past Continuous Tense: affirm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197000"/>
            <a:ext cx="878508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s-ES" sz="1400" spc="-1" strike="noStrike">
                <a:solidFill>
                  <a:srgbClr val="000000"/>
                </a:solidFill>
                <a:latin typeface="Constantia"/>
              </a:rPr>
              <a:t>USE 1. Interrupted Action in the Pas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Use the Past Continuous to indicate that a longer action in the past was interrupted. The interruption is usually a shorter action in the Simple Past. Remember this can be a real interruption or just an interruption in time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400" spc="-1" strike="noStrike">
                <a:solidFill>
                  <a:srgbClr val="ff0000"/>
                </a:solidFill>
                <a:latin typeface="Constantia"/>
              </a:rPr>
              <a:t>When the phone rang, she was writing a letter.</a:t>
            </a:r>
            <a:r>
              <a:rPr b="0" lang="es-ES" sz="1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tantia"/>
              </a:rPr>
              <a:t>USE 2. Specific Time as an Interruption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You can also use a specific time as an interruption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400" spc="-1" strike="noStrike">
                <a:solidFill>
                  <a:srgbClr val="ff0000"/>
                </a:solidFill>
                <a:latin typeface="Constantia"/>
              </a:rPr>
              <a:t>Yesterday at this time, I was speaking on the phone at work.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Constantia"/>
              </a:rPr>
              <a:t>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tantia"/>
              </a:rPr>
              <a:t>USE 3. Parallel action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When you use the Past Continuous with two actions in the same sentence, it expresses the idea that both actions were happening at the same time. The actions are parallel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400" spc="-1" strike="noStrike">
                <a:solidFill>
                  <a:srgbClr val="ff0000"/>
                </a:solidFill>
                <a:latin typeface="Constantia"/>
              </a:rPr>
              <a:t>I was studying English while my flatmates were making dinner.</a:t>
            </a: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tantia"/>
              </a:rPr>
              <a:t>USE 4. Atmospher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The English language sometimes uses a series of parallel actions to describe the atmosphere at a particular time in the past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400" spc="-1" strike="noStrike">
                <a:solidFill>
                  <a:srgbClr val="ff0000"/>
                </a:solidFill>
                <a:latin typeface="Constantia"/>
              </a:rPr>
              <a:t>When I got home, my sister was watching television, my mother was reading a book,</a:t>
            </a:r>
            <a:r>
              <a:rPr b="0" lang="es-ES" sz="1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400" spc="-1" strike="noStrike">
                <a:solidFill>
                  <a:srgbClr val="ff0000"/>
                </a:solidFill>
                <a:latin typeface="Constantia"/>
              </a:rPr>
              <a:t>my father was speaking on the phone and my grandparents were playing chess in the sitting room.</a:t>
            </a: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tantia"/>
              </a:rPr>
              <a:t>USE 5. Irritation with alway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The Past Continuous with adverbs like </a:t>
            </a:r>
            <a:r>
              <a:rPr b="0" i="1" lang="es-ES" sz="1400" spc="-1" strike="noStrike">
                <a:solidFill>
                  <a:srgbClr val="000000"/>
                </a:solidFill>
                <a:latin typeface="Constantia"/>
              </a:rPr>
              <a:t>always</a:t>
            </a: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i="1" lang="es-ES" sz="1400" spc="-1" strike="noStrike">
                <a:solidFill>
                  <a:srgbClr val="000000"/>
                </a:solidFill>
                <a:latin typeface="Constantia"/>
              </a:rPr>
              <a:t>constantly</a:t>
            </a: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 expresses the idea that something irritating often happened in the past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400" spc="-1" strike="noStrike">
                <a:solidFill>
                  <a:srgbClr val="ff0000"/>
                </a:solidFill>
                <a:latin typeface="Constantia"/>
              </a:rPr>
              <a:t>I didn't like that teacher because he was always shouting.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54936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Constantia"/>
              </a:rPr>
              <a:t>The Past Continuous Tense: 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2133720"/>
            <a:ext cx="784872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Remember the structure to form the negative form in past continuous: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Past to be + not + verb –ing + comp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nstantia"/>
              </a:rPr>
              <a:t>I / he / she was studying English at the libr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I / he / she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wasn't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studying English at the library.</a:t>
            </a:r>
            <a:r>
              <a:rPr b="0" lang="es-E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nstantia"/>
              </a:rPr>
              <a:t>You / we / they were doing the washing-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nstantia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You / we / they </a:t>
            </a:r>
            <a:r>
              <a:rPr b="1" i="1" lang="es-ES" sz="2400" spc="-1" strike="noStrike">
                <a:solidFill>
                  <a:srgbClr val="ff0000"/>
                </a:solidFill>
                <a:latin typeface="Constantia"/>
              </a:rPr>
              <a:t>weren't</a:t>
            </a:r>
            <a:r>
              <a:rPr b="0" i="1" lang="es-ES" sz="2400" spc="-1" strike="noStrike">
                <a:solidFill>
                  <a:srgbClr val="ff0000"/>
                </a:solidFill>
                <a:latin typeface="Constantia"/>
              </a:rPr>
              <a:t> doing the washing up.</a:t>
            </a: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0040" y="857160"/>
            <a:ext cx="82296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Constantia"/>
              </a:rPr>
              <a:t>The Past Continuous vs. the Past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628640"/>
            <a:ext cx="864216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A DIFFERENCE IN USE BETWEEN THE SIMPLE PAST AND THE PAST CONTINUOUS 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nstantia"/>
              </a:rPr>
              <a:t>In the Simple Past, a specific time is used to show when an action began or finished: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ff0000"/>
                </a:solidFill>
                <a:latin typeface="Constantia"/>
              </a:rPr>
              <a:t>Yesterday at midnight I listened to the radi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ff0000"/>
                </a:solidFill>
                <a:latin typeface="Constantia"/>
              </a:rPr>
              <a:t>(I started listening to it at midnigh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nstantia"/>
              </a:rPr>
              <a:t>However, in the Past Continuous a specific time only interrupts the action: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ff0000"/>
                </a:solidFill>
                <a:latin typeface="Constantia"/>
              </a:rPr>
              <a:t>Yesterday at midnight I was listening to the radi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ff0000"/>
                </a:solidFill>
                <a:latin typeface="Constantia"/>
              </a:rPr>
              <a:t>(I started earlier than midnight. At midnight I was already listening to the radio)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47628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Constantia"/>
              </a:rPr>
              <a:t>The past ending pronunciation: /id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484280"/>
            <a:ext cx="8713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If a verb itself ends in a /t/ or a /d/ sound, the final -ed is pronounced /id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onstantia"/>
              </a:rPr>
              <a:t>Decide &gt; decid</a:t>
            </a:r>
            <a:r>
              <a:rPr b="1" lang="es-ES" sz="2000" spc="-1" strike="noStrike">
                <a:solidFill>
                  <a:srgbClr val="ff0000"/>
                </a:solidFill>
                <a:latin typeface="Constantia"/>
              </a:rPr>
              <a:t>ed /id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onstantia"/>
              </a:rPr>
              <a:t>Want &gt; want</a:t>
            </a:r>
            <a:r>
              <a:rPr b="1" lang="es-ES" sz="2000" spc="-1" strike="noStrike">
                <a:solidFill>
                  <a:srgbClr val="ff0000"/>
                </a:solidFill>
                <a:latin typeface="Constantia"/>
              </a:rPr>
              <a:t>ed /id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The /id/ ending pronunciation is the only ending that is pronounced with an additional syllable: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"want" (one syllable) becomes "wanted" and is pronounced "want/id/" (two syllables)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"need" (one syllable) becomes "needed" and is pronounced "need/id/" (two syllables)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68200" algn="ctr">
              <a:lnSpc>
                <a:spcPct val="93000"/>
              </a:lnSpc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"decide" (two syllables) becomes "decided" and is pronounced "decide/id/" (three syllables)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qui</dc:creator>
  <dc:description/>
  <dc:language>en-US</dc:language>
  <cp:lastModifiedBy/>
  <dcterms:modified xsi:type="dcterms:W3CDTF">2021-03-04T10:43:14Z</dcterms:modified>
  <cp:revision>17</cp:revision>
  <dc:subject/>
  <dc:title>Estudiamos las palabras invariables</dc:title>
</cp:coreProperties>
</file>