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3C99-2701-40A3-9780-EB85C59EA05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AF7DF-AD8E-4732-B479-531E62A6A47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1FDAE-92FB-47B9-ACF3-D655C8F1959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7AFFE-302E-43BF-8356-0135DB789D6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44171-C3A4-445F-8D06-E44A4751583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9144A-1CC6-4E4D-80A8-2F262ED3280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E1965-12F5-4CC1-89C6-5F0BB6C5DED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3D2AE-C837-4FFD-900A-3418B3CAF75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98DC3-9A10-47F5-AB7D-957E96EE7C5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25E76-EEBD-4511-BBEC-F7EB74F5DA6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F4C00-9041-47FC-AD67-8E50CD87D8B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371160"/>
            <a:ext cx="83120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03640" y="6583320"/>
            <a:ext cx="594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Paco was visiting the city of Brighton whe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cap="sq"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3608280"/>
            <a:ext cx="4464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609588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880560"/>
            <a:ext cx="8315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's dream comes true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 was visiting the city of Brighton when …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20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Tense: affirm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97000"/>
            <a:ext cx="878508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1. Interrupted Action in the Pas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Use the Past Continuous to indicate that a longer action in the past was interrupted. The interruption is usually a shorter action in the Simple Past. Remember this can be a real interruption or just an interruption in tim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When the phone rang, she was writing a letter.</a:t>
            </a:r>
            <a:r>
              <a:rPr b="0" lang="es-ES" sz="1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2. Specific Time as an Interrup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You can also use a specific time as an interruption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Yesterday at this time, I was speaking on the phone at work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3. Parallel action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When you use the Past Continuous with two actions in the same sentence, it expresses the idea that both actions were happening at the same time. The actions are paralle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I was studying English while my flatmates were making dinner.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4. Atmosphe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The English language sometimes uses a series of parallel actions to describe the atmosphere at a particular time in the pas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When I got home, my sister was watching television, my mother was reading a book,</a:t>
            </a:r>
            <a:r>
              <a:rPr b="0" lang="es-ES" sz="1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my father was speaking on the phone and my grandparents were playing chess in the sitting room.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5. Irritation with alway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The Past Continuous with adverbs like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always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constantly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expresses the idea that something irritating often happened in the pas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I didn't like that teacher because he was always shouting.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549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Tense: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133720"/>
            <a:ext cx="7848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Remember the structure to form the negative form in past continuou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st to be + not + verb –ing + com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I / he / she was studying English at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I / he / she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wasn't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studying English at the library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You / we / they were doing the washing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You / we / they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weren't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doing the washing up.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vs. the Past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628640"/>
            <a:ext cx="8642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A DIFFERENCE IN USE BETWEEN THE SIMPLE PAST AND THE PAST CONTINUOUS 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nstantia"/>
              </a:rPr>
              <a:t>In the Simple Past, a specific time is used to show when an action began or finished: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Yesterday at midnight I listened to the rad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(I started listening to it at midnigh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nstantia"/>
              </a:rPr>
              <a:t>However, in the Past Continuous a specific time only interrupts the action: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Yesterday at midnight I was listening to the rad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(I started earlier than midnight. At midnight I was already listening to the radio)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ending pronunciation: /id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484280"/>
            <a:ext cx="871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f a verb itself ends in a /t/ or a /d/ sound, the final -ed is pronounc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nstantia"/>
              </a:rPr>
              <a:t>Decide &gt; decid</a:t>
            </a:r>
            <a:r>
              <a:rPr b="1" lang="es-ES" sz="2000" spc="-1" strike="noStrike">
                <a:solidFill>
                  <a:srgbClr val="ff0000"/>
                </a:solidFill>
                <a:latin typeface="Constantia"/>
              </a:rPr>
              <a:t>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nstantia"/>
              </a:rPr>
              <a:t>Want &gt; want</a:t>
            </a:r>
            <a:r>
              <a:rPr b="1" lang="es-ES" sz="2000" spc="-1" strike="noStrike">
                <a:solidFill>
                  <a:srgbClr val="ff0000"/>
                </a:solidFill>
                <a:latin typeface="Constantia"/>
              </a:rPr>
              <a:t>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The /id/ ending pronunciation is the only ending that is pronounced with an additional syllable: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want" (one syllable) becomes "wanted" and is pronounced "want/id/" (two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need" (one syllable) becomes "needed" and is pronounced "need/id/" (two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decide" (two syllables) becomes "decided" and is pronounced "decide/id/" (three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3-04T10:43:14Z</dcterms:modified>
  <cp:revision>17</cp:revision>
  <dc:subject/>
  <dc:title>Estudiamos las palabras invariables</dc:title>
</cp:coreProperties>
</file>