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1BE8A36-A14C-4C4A-AE4F-70C9C235EBED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AD5AFF1B-213D-4848-83DD-89E3C52A567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1D0C4C84-9800-48A4-ABA3-656D35283DC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8E40A285-1D3B-456E-9581-2CFCCB08F9B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5050ADB9-D649-42B3-8717-DA327D48CC6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197872FC-6D52-48EB-9D18-D2211227F51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335D590C-B045-4B57-971A-D5E4BB8E4A9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629399FC-B5FA-429A-9A36-BF15E952311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278EE539-6139-4F7C-A7DD-72B51CC1CEC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75C4C2AB-5BC5-4227-A496-1492835B9B7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9640"/>
                <a:tab algn="l" pos="2971800"/>
                <a:tab algn="l" pos="3960720"/>
                <a:tab algn="l" pos="4951440"/>
                <a:tab algn="l" pos="5943600"/>
                <a:tab algn="l" pos="6931080"/>
                <a:tab algn="l" pos="7921800"/>
                <a:tab algn="l" pos="8912160"/>
                <a:tab algn="l" pos="9902880"/>
                <a:tab algn="l" pos="10893600"/>
              </a:tabLst>
            </a:pPr>
            <a:fld id="{4DC9BE2D-36F9-4F91-8CA4-3139A4C9DE8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F955-86F7-41B8-A7F6-B53479ADD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1AFA-ABAC-4F34-86BC-31D5AD3D3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0957-046A-4BC0-BD59-9C8FBDC18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1B69-AE69-48EF-BE43-B15DF6BC1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B4CB-26AF-4906-9DFF-F243FF785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0119-325E-4A04-9F1B-6982A1190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BE3B-F962-4972-8B4D-3E996754C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C4EF-07D4-42DE-AB8F-E5D622A2D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384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5B27-6265-4E94-A3B4-02EB41757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5A01-081F-4C15-A2DB-A4FBF08E7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E26E-362E-48FA-B123-1DDBDD62C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6320"/>
            <a:ext cx="8313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4296-4BB5-426A-8B5F-CE3CB72B2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FBA6-6B44-4D3E-BA48-F6338A99AB4B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38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6699"/>
                </a:solidFill>
                <a:latin typeface="Trebuchet MS"/>
              </a:rPr>
              <a:t>Paco visits Dub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00360" y="191628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Ireland: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Dub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6021360"/>
            <a:ext cx="317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By joelgoodman, Creative Common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he future: Present Continuo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989000"/>
            <a:ext cx="68832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Are we going together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UBJECT + TO BE + VERB –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sed for future arrangemen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What are you visiting these days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visiting the main Dublin attra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celebrating St. Patrick’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trying a true Guin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I’m checking the bus timetab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0040" y="85716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he future: Present Si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1916280"/>
            <a:ext cx="595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hat time does the bus le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Arial"/>
              <a:buChar char="•"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rogramme or time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-What time does the bus lea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MS Gothic"/>
              </a:rPr>
              <a:t>-It leaves at 10.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83664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Too / enoug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1773360"/>
            <a:ext cx="6381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It’s too 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2565360"/>
          <a:ext cx="6289560" cy="3779640"/>
        </p:xfrm>
        <a:graphic>
          <a:graphicData uri="http://schemas.openxmlformats.org/drawingml/2006/table">
            <a:tbl>
              <a:tblPr/>
              <a:tblGrid>
                <a:gridCol w="3145680"/>
                <a:gridCol w="314388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U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eans more than necessar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followed by an adjective or adverb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eans sufficien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follows an adjective or adverb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an be followed by a nou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LilyUPC"/>
              </a:rPr>
              <a:t>Phrasal verbs with ‘get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1484280"/>
            <a:ext cx="64800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aco and Adam got on really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76360" y="2060640"/>
          <a:ext cx="6913080" cy="4409640"/>
        </p:xfrm>
        <a:graphic>
          <a:graphicData uri="http://schemas.openxmlformats.org/drawingml/2006/table">
            <a:tbl>
              <a:tblPr/>
              <a:tblGrid>
                <a:gridCol w="6913080"/>
              </a:tblGrid>
              <a:tr h="44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n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round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avel, go from place to plac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ut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ke ou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good at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come more and more skillful at someth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ff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ave the train or bu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long with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ve a good relationshi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over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cov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down to business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rt giving serious atten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 hold of someone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ntac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cross: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mmunicat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/>
  <dcterms:modified xsi:type="dcterms:W3CDTF">2021-06-16T09:37:25Z</dcterms:modified>
  <cp:revision>34</cp:revision>
  <dc:subject/>
  <dc:title>Estudiamos las palabras invariables</dc:title>
</cp:coreProperties>
</file>