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ACE2D98B-6571-4812-96E5-A62133F27C0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BEA7F672-1498-4D44-89D3-71C793989B5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B77B6C74-73A9-49FE-8BF7-D1CBAA8146B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50BD073F-E920-4FAE-83FB-F044748D8C8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5F7F1277-B33F-44FF-95A9-77E2C8D0379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DC780923-2DAE-44FF-A006-008D63A4FA1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DC5CFDF5-1CB9-44BD-B2AD-A5C334D3B2A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9F287FF1-CD8A-4847-A6E7-A80C3217AEA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6A5B807A-663D-474C-AA1A-1645D580286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DFEAA9AA-2540-4B6C-8310-03EC327293E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3B72F1A8-3F57-45E5-8108-2A3809F10C3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D210-B92B-44C0-87B7-436246E74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07EB-43A8-4110-8844-350C60C5C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5B5E-BE26-44D6-AE0F-009D68502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B2D1-41FA-4603-8FF6-985CE4C17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46D9-A93D-4076-BC4D-45F898AE7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E456-DDC7-4F83-A147-C66541EA4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8E64-0C6E-4235-930B-2114F9499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35A2-AC45-41EB-8D73-3BBD5CCE0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494A-69B1-4956-9018-5EC09F568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E5D8-FA6D-4097-A98C-D3F5E72BD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3CCF-1972-4326-A151-640206E19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4AE1-1169-4DE8-BB3B-EFD5904F3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DB1EA-DCCA-4DFA-A705-53BCE90AD308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38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Trebuchet MS"/>
              </a:rPr>
              <a:t>Paco visits Dub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00360" y="1916280"/>
            <a:ext cx="53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visits Ireland: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visits Dub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6021360"/>
            <a:ext cx="3178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y joelgoodman, Creative Common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The future: Present Continuo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989000"/>
            <a:ext cx="688320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Are we going together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UBJECT + TO BE + VERB –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sed for future arrangemen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What are you visiting these day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I’m visiting the main Dublin attra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I’m celebrating St. Patrick’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I’m trying a true Guin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I’m checking the bus timetab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The future: Present Si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1916280"/>
            <a:ext cx="5951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hat time does the bus lea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rogramme or time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-What time does the bus lea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-It leaves at 10.3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83664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Too / enoug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1773360"/>
            <a:ext cx="6381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It’s too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2565360"/>
          <a:ext cx="6289560" cy="3779640"/>
        </p:xfrm>
        <a:graphic>
          <a:graphicData uri="http://schemas.openxmlformats.org/drawingml/2006/table">
            <a:tbl>
              <a:tblPr/>
              <a:tblGrid>
                <a:gridCol w="3145680"/>
                <a:gridCol w="314388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eans more than necessar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followed by an adjective or adverb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eans sufficien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follows an adjective or adverb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can be followed by a nou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Phrasal verbs with ‘get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1484280"/>
            <a:ext cx="64800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aco and Adam got on really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76360" y="2060640"/>
          <a:ext cx="6913080" cy="4409640"/>
        </p:xfrm>
        <a:graphic>
          <a:graphicData uri="http://schemas.openxmlformats.org/drawingml/2006/table">
            <a:tbl>
              <a:tblPr/>
              <a:tblGrid>
                <a:gridCol w="6913080"/>
              </a:tblGrid>
              <a:tr h="44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on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t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round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vel, go from place to plac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out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ake ou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good at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come more and more skillful at someth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off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eave the train or bu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long with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ve a good relationshi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over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cov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down to business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rt giving serious atten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 hold of someone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ntac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cross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mmunica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/>
  <dcterms:modified xsi:type="dcterms:W3CDTF">2021-06-16T09:37:25Z</dcterms:modified>
  <cp:revision>34</cp:revision>
  <dc:subject/>
  <dc:title>Estudiamos las palabras invariables</dc:title>
</cp:coreProperties>
</file>