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0200" cy="3832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5400" cy="46004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440"/>
            <a:ext cx="3071880" cy="506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16046-D2EE-4E2F-ACBD-5DC06108C0B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DDD25-97E8-46CF-B113-306C35736CE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6C371-A633-47ED-AC2E-B3471469E53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5F550-CC3E-4D79-927B-9D4B40344A6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7F9BC-DFC9-4A77-A7EA-63AA50AAA10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3BC4E-28C0-4E45-87D8-01CE3CABE356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61A10-B23B-47D3-8742-3E828C49CDB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EF8AA-2918-4EC3-ACF5-170A74E708E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25272-7D9C-4E11-B1E1-18E1C518685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7CEC7-39A8-47D4-8BDA-33D57A1B989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A1910-0F5B-4598-99A0-70DD5E51C50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AF482-07FB-4DEB-A630-05E670BFF41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4E100-667E-47DA-8679-AF86DEF541B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B6E93-06DC-4919-AC90-7D93DDAF9B7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5FB58-2E3B-4ED3-B174-85DB94740196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45756-0BEC-46E3-AB2F-FA077573C1C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D2554-4D98-4C74-954A-24FC8BCE817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85148-2777-4BDC-AE8A-ED7D0D2F2F2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5E2EA-9236-484D-A3B6-991A28EAC78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F22C-6E1B-46D1-9A97-5E3C09A89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7A20-915F-4B97-9AF6-38B0508AB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6D14-5593-45D9-872F-53A9196F8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B2BB-2661-4E69-BB66-34C2AC93F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384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77BE-9223-4428-87CB-ABB55FA57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F7A7-86E4-46CE-9546-9B4FE5E51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1E74-376E-4714-8E3B-47B87A10A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B480-24F9-4E02-A59A-FA138587C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384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409A-AEA7-4C1C-898F-B896759D5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A30E-A1DF-4762-A44C-3DE4DD7BB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9E04-15A0-4F86-8828-73D1E6635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6A26-E76B-42BD-9A53-621ED7ED6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cap="sq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 rot="420000">
            <a:off x="7999200" y="5358960"/>
            <a:ext cx="15552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/>
              </a:gs>
              <a:gs pos="100000">
                <a:srgbClr val="ffc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/>
              </a:gs>
              <a:gs pos="100000">
                <a:srgbClr val="f492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46240"/>
            <a:ext cx="8224920" cy="1596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3280"/>
            <a:ext cx="213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077320" y="6356160"/>
            <a:ext cx="60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4A222-0179-4673-9BAA-2E847660C39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38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aco is wearing a new s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cap="sq"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aco: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Paco is wearing a new suit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28760" y="2000160"/>
            <a:ext cx="8464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2700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si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700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700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bject + Present “to be” + Present Participle (-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700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700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700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ega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700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700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700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bject + Present “to be” + NOT + Present Participle (-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700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040" y="71424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The Present Continuous T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00040" y="85716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The Present Continuous T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28800" y="1785960"/>
            <a:ext cx="734508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Used to talk abou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 actions happening at the moment of speak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aco is wearing a new sui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ions happening in a period around the present moment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Thomas’s cousin is staying with them these day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ture plans and arrang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ndrés is meeting Paco next Saturday even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ends or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aco thinks English is becoming harder and ha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 repeated actions which are irritating to the speak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onia, you’re always speaking on the phone”, said Pac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26920" y="1844640"/>
            <a:ext cx="7215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ative ver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 describe a state or condition rather than an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 are not used in continuous ten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ossession),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know, like, understand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namic ver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 describe 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 can be used in continuous ten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take)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704880"/>
            <a:ext cx="8229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Arial"/>
              </a:rPr>
              <a:t>Stative vs. dynamic verb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1280" y="2349360"/>
            <a:ext cx="734544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549360"/>
            <a:ext cx="82296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Present Simple vs. Present Continuo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11280" y="1844640"/>
          <a:ext cx="3457080" cy="2912760"/>
        </p:xfrm>
        <a:graphic>
          <a:graphicData uri="http://schemas.openxmlformats.org/drawingml/2006/table">
            <a:tbl>
              <a:tblPr/>
              <a:tblGrid>
                <a:gridCol w="3457080"/>
              </a:tblGrid>
              <a:tr h="484200">
                <a:tc>
                  <a:txBody>
                    <a:bodyPr lIns="90000" rIns="90000" tIns="41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10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6040"/>
                          <a:tab algn="l" pos="895320"/>
                          <a:tab algn="l" pos="1344600"/>
                          <a:tab algn="l" pos="1793880"/>
                          <a:tab algn="l" pos="2243160"/>
                          <a:tab algn="l" pos="2692440"/>
                          <a:tab algn="l" pos="3141720"/>
                          <a:tab algn="l" pos="3591000"/>
                          <a:tab algn="l" pos="4040280"/>
                          <a:tab algn="l" pos="4489560"/>
                          <a:tab algn="l" pos="4938840"/>
                          <a:tab algn="l" pos="5389560"/>
                          <a:tab algn="l" pos="5837400"/>
                          <a:tab algn="l" pos="6286680"/>
                          <a:tab algn="l" pos="6735600"/>
                          <a:tab algn="l" pos="7184880"/>
                          <a:tab algn="l" pos="7634160"/>
                          <a:tab algn="l" pos="8083440"/>
                          <a:tab algn="l" pos="8532720"/>
                          <a:tab algn="l" pos="89820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s / routin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10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s, dislik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10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anent situations /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ed a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10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d ev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10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 which are alway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generally tr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56000" y="1844640"/>
          <a:ext cx="3817800" cy="2882520"/>
        </p:xfrm>
        <a:graphic>
          <a:graphicData uri="http://schemas.openxmlformats.org/drawingml/2006/table">
            <a:tbl>
              <a:tblPr/>
              <a:tblGrid>
                <a:gridCol w="3817800"/>
              </a:tblGrid>
              <a:tr h="437400">
                <a:tc>
                  <a:txBody>
                    <a:bodyPr lIns="90000" rIns="90000" tIns="41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7272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 happening at the moment of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10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ry or developing a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10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ds or chan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12492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plans or arrang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10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ains (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stantly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357200" y="4941720"/>
          <a:ext cx="5930640" cy="1461960"/>
        </p:xfrm>
        <a:graphic>
          <a:graphicData uri="http://schemas.openxmlformats.org/drawingml/2006/table">
            <a:tbl>
              <a:tblPr/>
              <a:tblGrid>
                <a:gridCol w="5930640"/>
              </a:tblGrid>
              <a:tr h="1461960">
                <a:tc>
                  <a:txBody>
                    <a:bodyPr lIns="90000" rIns="90000" tIns="4428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hird person singular –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9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d sound + (e)s: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z/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oiced)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g. know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9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less sound + (e)s: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/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oiceless)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g. sta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9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/, sh /ʃ/, ch /ʧ/, /z/, /ʤ/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-es: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iz/ e.g. wash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2781360"/>
            <a:ext cx="82803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metimes actions occurring at the moment of spea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panish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resente de indicativo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leva un traje nuev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nglish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resent Continuous or Progressive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 is wearing a new sui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ture plans or arrangeme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panish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Futuro simple / Presente de indicativo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añana me reúno con el Director del ban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nglish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resent Continuous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’m meeting the bank manager tomorrow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900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Spanish vs. Engli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>Rafa</cp:lastModifiedBy>
  <dcterms:modified xsi:type="dcterms:W3CDTF">2010-05-27T06:21:22Z</dcterms:modified>
  <cp:revision>20</cp:revision>
  <dc:subject/>
  <dc:title>Estudiamos las palabras invariables</dc:title>
</cp:coreProperties>
</file>